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74CDA-3542-4422-9D97-B7203B517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771D3-D44E-4671-8E52-98958A73F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D0E5A-FF8D-47F0-9333-FE39F204B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F998C-57EA-41DC-93E2-202AA2A30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8AADC-0CB1-4646-94D9-79EC37BE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7607C-1627-4B77-B8C0-0A1066A66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ACA20-AD43-463D-8C98-2725E71A3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F4883-4FE3-4C1C-8E94-8C35FD9B2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EF9E9-D53C-46B9-820B-5A4C0684F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F8D3-FB25-4F3F-A0ED-D680736A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999F-1FA7-4878-82A6-BB9D466EF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6A7C-BDAC-4A14-9CA1-E3428743A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47CA-C452-4EDB-AF39-17D354588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ottorato Internazionale</a:t>
            </a:r>
            <a:br>
              <a:rPr sz="2800"/>
            </a:br>
            <a:r>
              <a:rPr b="0" lang="en-US" sz="2800" spc="-1" strike="noStrike">
                <a:solidFill>
                  <a:srgbClr val="ffffff"/>
                </a:solidFill>
                <a:latin typeface="Times New Roman"/>
                <a:ea typeface="Times New Roman"/>
              </a:rPr>
              <a:t>Dinamiche dopo-moderne, strategie d’innovazione e reti di sviluppo locale</a:t>
            </a:r>
            <a:endParaRPr b="0" lang="en-US" sz="28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Università degli studi di Perug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Narni 6 aprile 2011</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ea typeface="Times New Roman"/>
              </a:rPr>
              <a:t>Il paradigma di rete</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Paola Di Nicola</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Università degli Studi di Verona</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a </a:t>
            </a:r>
            <a:r>
              <a:rPr b="0" i="1" lang="he-IL" sz="3200" spc="-1" strike="noStrike">
                <a:solidFill>
                  <a:srgbClr val="ffffff"/>
                </a:solidFill>
                <a:latin typeface="Times New Roman"/>
                <a:ea typeface="MS Mincho"/>
              </a:rPr>
              <a:t>network analysis</a:t>
            </a:r>
            <a:r>
              <a:rPr b="0" lang="he-IL" sz="3200" spc="-1" strike="noStrike">
                <a:solidFill>
                  <a:srgbClr val="ffffff"/>
                </a:solidFill>
                <a:latin typeface="Times New Roman"/>
                <a:ea typeface="MS Mincho"/>
              </a:rPr>
              <a:t> rappresenta un modo nuovo e diverso di porre domande su come e perché funziona la società, che si riconnette direttamente alla tradizione sociologica di Simmel e Von Wies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che eleggono ad oggetto della sociologia e del sociale la relazione sociale, i sistemi di interdipendenza concretamente attivi in specifici spazi social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sociologia studia le forme della vita sociale sotto l'aspetto di attività umana che è espressione e risultato di un agire sociale in quanto relazione intersogget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 di una logica che non dipende dal sociale inteso come volontà e intenzionali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 strutture sociali sono un prodotto dell'azione di individui storicamente situati che si muovono come attori in sistemi funzion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rganizzati in ruo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 come agenti in sistemi di interdipendenza (che prescindono dai vincoli organizzativi formalizzati in ruo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e strutture, che sono forme consolidate di azioni soci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evono essere considerate sia come vincolo all'azione uma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che come aiuto per ulteriori capacità (padronanza di una crescente complessità), non sono mai fattori deterministici di azione, per la natura ambivalente delle norme e dei ruoli che le compongon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er la sociologia relazion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la realtà sociale non è fatta di relazioni sociali, ma è essa stessa relazione soc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 complesso sistema di interdipendenza creato dalle attività umane che sono possibili se ed in quanto sono esse stesse relazioni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e relazioni sociali sono connessioni intenzionalmente attuate dall'attore sociale che, tuttavia, per attualizzar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cessita di un codice normativo di riferimen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relazione sociale è pre-condizione per qualsiasi altra relazione soci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condo questa prospettiva di analisi, nella spiegazione di un qualsiasi fenomeno sociale, privilegiare i soli fattori strutturali (o posizionali) significa ignorare totalmente l'attore sociale nella sua concretezza (come presupposto della relazione sociale) e quindi tradire uno degli assunti di base degli strutturalisti (vale a dire l'assunto secondo il quale bisogna studiare le relazioni tra soggetti e non tra variabi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rivilegiare i soli fattori simbolici (intenzionalità e volon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ignifica precludersi ogni possibilità di comprendere fattori, situazioni e contesti che di fatto rendono possibile una relazione sociale</a:t>
            </a:r>
            <a:br>
              <a:rPr sz="3200"/>
            </a:br>
            <a:r>
              <a:rPr b="0" lang="it-IT" sz="3200" spc="-1" strike="noStrike">
                <a:solidFill>
                  <a:srgbClr val="ffffff"/>
                </a:solidFill>
                <a:latin typeface="Times New Roman"/>
                <a:ea typeface="Times New Roman"/>
              </a:rPr>
              <a:t> Possibilità intesa come: pre-condizione, selezione tra più alternative, riduzione della complessi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Paradigma di rete e teoria relazionale della società</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e riflessioni sin qui sviluppate</a:t>
            </a:r>
            <a:r>
              <a:rPr b="0" lang="it-IT" sz="3200" spc="-1" strike="noStrike">
                <a:solidFill>
                  <a:srgbClr val="ffffff"/>
                </a:solidFill>
                <a:latin typeface="Times New Roman"/>
                <a:ea typeface="Times New Roman"/>
              </a:rPr>
              <a:t> erano </a:t>
            </a:r>
            <a:r>
              <a:rPr b="0" lang="he-IL" sz="3200" spc="-1" strike="noStrike">
                <a:solidFill>
                  <a:srgbClr val="ffffff"/>
                </a:solidFill>
                <a:latin typeface="Times New Roman"/>
                <a:ea typeface="Times New Roman"/>
              </a:rPr>
              <a:t> tese a trovare un bandolo, un filo conduttore che consentisse di orientarsi all'intern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i studi, ricerche, tentativi di interpretazione del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he in un modo o nell'altro evocano il concetto di rete, di reticolo sociale e di relazione socia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distinzione, operata, tra paradigma di rete e sociologia relazion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he hanno esplicite connessioni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riva dal fatto che l'approccio relazion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 quanto approcci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non si limita ad assumere e definire la realtà, il sociale come relazione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 si pone anche il problema del perché (assunto filosofic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realtà sociale è relazion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L'approccio, a differenza del paradigma (che si può intendere come 'linguaggio' con cui si formulano i problemi e si esprimono rispos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E' una teoria complessa (o globale) sull'</a:t>
            </a:r>
            <a:r>
              <a:rPr b="0" i="1" lang="he-IL" sz="2800" spc="-1" strike="noStrike">
                <a:solidFill>
                  <a:srgbClr val="ffffff"/>
                </a:solidFill>
                <a:latin typeface="Times New Roman"/>
                <a:ea typeface="Times New Roman"/>
              </a:rPr>
              <a:t>intera</a:t>
            </a:r>
            <a:r>
              <a:rPr b="0" lang="he-IL" sz="2800" spc="-1" strike="noStrike">
                <a:solidFill>
                  <a:srgbClr val="ffffff"/>
                </a:solidFill>
                <a:latin typeface="Times New Roman"/>
                <a:ea typeface="Times New Roman"/>
              </a:rPr>
              <a:t> realtà sociale (non su singoli aspetti o fenomeni) guidata da </a:t>
            </a:r>
            <a:r>
              <a:rPr b="0" i="1" lang="he-IL" sz="2800" spc="-1" strike="noStrike">
                <a:solidFill>
                  <a:srgbClr val="ffffff"/>
                </a:solidFill>
                <a:latin typeface="Times New Roman"/>
                <a:ea typeface="Times New Roman"/>
              </a:rPr>
              <a:t>scopi/interessi specifici</a:t>
            </a:r>
            <a:r>
              <a:rPr b="0" lang="he-IL" sz="2800" spc="-1" strike="noStrike">
                <a:solidFill>
                  <a:srgbClr val="ffffff"/>
                </a:solidFill>
                <a:latin typeface="Times New Roman"/>
                <a:ea typeface="Times New Roman"/>
              </a:rPr>
              <a:t> (intenzioni della «teoria» ivi contenuta) basati su </a:t>
            </a:r>
            <a:r>
              <a:rPr b="0" i="1" lang="he-IL" sz="2800" spc="-1" strike="noStrike">
                <a:solidFill>
                  <a:srgbClr val="ffffff"/>
                </a:solidFill>
                <a:latin typeface="Times New Roman"/>
                <a:ea typeface="Times New Roman"/>
              </a:rPr>
              <a:t>assunti di </a:t>
            </a:r>
            <a:r>
              <a:rPr b="0" i="1" lang="it-IT" sz="2800" spc="-1" strike="noStrike">
                <a:solidFill>
                  <a:srgbClr val="ffffff"/>
                </a:solidFill>
                <a:latin typeface="Times New Roman"/>
                <a:ea typeface="Times New Roman"/>
              </a:rPr>
              <a:t>rilevanza, </a:t>
            </a:r>
            <a:r>
              <a:rPr b="0" lang="it-IT" sz="2800" spc="-1" strike="noStrike">
                <a:solidFill>
                  <a:srgbClr val="ffffff"/>
                </a:solidFill>
                <a:latin typeface="Times New Roman"/>
                <a:ea typeface="Times New Roman"/>
              </a:rPr>
              <a:t>espliciti o impliciti, a riguardo di ciò che si vuole conoscere</a:t>
            </a:r>
            <a:r>
              <a:rPr b="0" i="1"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Un approccio può utilizzare metodi differenti e anche diversi paradigmi contemporaneamente (Donati)</a:t>
            </a:r>
            <a:r>
              <a:rPr b="0" i="1"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a novità è data dal fatto che oggetto della riflessione non so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separatamente e a seconda della prospettiv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i sistemi sociali, le azioni dotate di senso, il complesso delle motivazioni e delle spinte individuali, le forme della ritualizzazione, generalizzazione e istituzionalizzazione dei comportamenti, che diverrebbero 'complessi' coerenti di condizionamento del comportamento umano</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 importante rilevare che, come tale, l'approccio mescola assieme: </a:t>
            </a:r>
            <a:endParaRPr b="0" lang="en-US" sz="3200" spc="-1" strike="noStrike">
              <a:solidFill>
                <a:srgbClr val="000000"/>
              </a:solidFill>
              <a:latin typeface="Times New Roman"/>
            </a:endParaRPr>
          </a:p>
          <a:p>
            <a:pPr marL="609480" indent="-609480" algn="ctr">
              <a:lnSpc>
                <a:spcPct val="90000"/>
              </a:lnSpc>
              <a:spcBef>
                <a:spcPts val="799"/>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giudizi di fatto (teorie scientifiche verificabili), con b) giudizi di valore (valutazione di fatti e teorie secondo un certo sistema di valori), </a:t>
            </a:r>
            <a:endParaRPr b="0" lang="en-US" sz="3200" spc="-1" strike="noStrike">
              <a:solidFill>
                <a:srgbClr val="000000"/>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 quali influiscono (i) sugli assunti di rilevanza (ciò che ritengo rilevante conoscere) e (ii) quindi sugli scopi/interessi della teorizzazi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ll'approccio sociologic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i operano pertanto del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Times New Roman"/>
                <a:ea typeface="Times New Roman"/>
              </a:rPr>
              <a:t>scelte di valore</a:t>
            </a: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che sono pre-scientifich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ssunti di rilevanz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e meta-scientifich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copi/interessi della teori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on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a:t>
            </a:r>
            <a:r>
              <a:rPr b="0" lang="he-IL" sz="3200" spc="-1" strike="noStrike">
                <a:solidFill>
                  <a:srgbClr val="ffffff"/>
                </a:solidFill>
                <a:latin typeface="Times New Roman"/>
                <a:ea typeface="Times New Roman"/>
              </a:rPr>
              <a:t>ella sua prima formulazione sistematica della sociologia relazionale,  Donati definiva la sociologia relazionale non come una sociologia o un approccio in più, ma come "Proposta di un </a:t>
            </a:r>
            <a:r>
              <a:rPr b="0" i="1" lang="he-IL" sz="3200" spc="-1" strike="noStrike">
                <a:solidFill>
                  <a:srgbClr val="ffffff"/>
                </a:solidFill>
                <a:latin typeface="Times New Roman"/>
                <a:ea typeface="Times New Roman"/>
              </a:rPr>
              <a:t>framework</a:t>
            </a:r>
            <a:r>
              <a:rPr b="0" lang="he-IL" sz="3200" spc="-1" strike="noStrike">
                <a:solidFill>
                  <a:srgbClr val="ffffff"/>
                </a:solidFill>
                <a:latin typeface="Times New Roman"/>
                <a:ea typeface="Times New Roman"/>
              </a:rPr>
              <a:t> concettuale di riferimento generalizzato che, come meta-codice, può unire e differenziare le varie sociologie conferendo loro un senso e un ruolo specifici all'interno del più generale sapere «sociologico»" </a:t>
            </a:r>
            <a:r>
              <a:rPr b="0" lang="it-IT" sz="3200" spc="-1" strike="noStrike">
                <a:solidFill>
                  <a:srgbClr val="ffffff"/>
                </a:solidFill>
                <a:latin typeface="Times New Roman"/>
                <a:ea typeface="Times New Roman"/>
              </a:rPr>
              <a:t>(Dona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uccessivamente la sociologia relazionale ha assunto i caratteri di un diverso e peculiare approccio conoscitiv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he a partire da una epistemologia relazion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propone una teoria complessa sull'intera socie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ona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t>
            </a:r>
            <a:r>
              <a:rPr b="0" lang="he-IL" sz="3200" spc="-1" strike="noStrike">
                <a:solidFill>
                  <a:srgbClr val="ffffff"/>
                </a:solidFill>
                <a:latin typeface="Times New Roman"/>
                <a:ea typeface="Times New Roman"/>
              </a:rPr>
              <a:t>assunto filosofico di base più appropriato per </a:t>
            </a:r>
            <a:r>
              <a:rPr b="0" lang="it-IT" sz="3200" spc="-1" strike="noStrike">
                <a:solidFill>
                  <a:srgbClr val="ffffff"/>
                </a:solidFill>
                <a:latin typeface="Times New Roman"/>
                <a:ea typeface="Times New Roman"/>
              </a:rPr>
              <a:t>la sociologia relazionale è</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Quello secondo cui l'uomo è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 suo esse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l'essere in quanto tale è</a:t>
            </a:r>
            <a:r>
              <a:rPr b="0" lang="it-IT"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l'oggetto della filosofi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i="1" lang="he-IL" sz="3200" spc="-1" strike="noStrike">
                <a:solidFill>
                  <a:srgbClr val="ffffff"/>
                </a:solidFill>
                <a:latin typeface="Times New Roman"/>
                <a:ea typeface="Times New Roman"/>
              </a:rPr>
              <a:t>zoon politikon</a:t>
            </a:r>
            <a:r>
              <a:rPr b="0" lang="he-IL" sz="3200" spc="-1" strike="noStrike">
                <a:solidFill>
                  <a:srgbClr val="ffffff"/>
                </a:solidFill>
                <a:latin typeface="Times New Roman"/>
                <a:ea typeface="Times New Roman"/>
              </a:rPr>
              <a:t> (animale politic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ossia un essere vivente naturalmente socievole" </a:t>
            </a:r>
            <a:r>
              <a:rPr b="0" lang="it-IT" sz="3200" spc="-1" strike="noStrike">
                <a:solidFill>
                  <a:srgbClr val="ffffff"/>
                </a:solidFill>
                <a:latin typeface="Times New Roman"/>
                <a:ea typeface="Times New Roman"/>
              </a:rPr>
              <a:t>(Dona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a:t>
            </a:r>
            <a:r>
              <a:rPr b="0" lang="he-IL" sz="3200" spc="-1" strike="noStrike">
                <a:solidFill>
                  <a:srgbClr val="ffffff"/>
                </a:solidFill>
                <a:latin typeface="Times New Roman"/>
                <a:ea typeface="Times New Roman"/>
              </a:rPr>
              <a:t>er Donati "L'oggetto della sociologia è:</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I) in primo luogo, l'uomo in quanto «agente sociale concreto» ossia determinato (nel senso di specificato, individuato) e determinante delle relazioni soci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II) </a:t>
            </a:r>
            <a:r>
              <a:rPr b="0" lang="it-IT" sz="3200" spc="-1" strike="noStrike">
                <a:solidFill>
                  <a:srgbClr val="ffffff"/>
                </a:solidFill>
                <a:latin typeface="Times New Roman"/>
                <a:ea typeface="Times New Roman"/>
              </a:rPr>
              <a:t>e </a:t>
            </a:r>
            <a:r>
              <a:rPr b="0" lang="he-IL" sz="3200" spc="-1" strike="noStrike">
                <a:solidFill>
                  <a:srgbClr val="ffffff"/>
                </a:solidFill>
                <a:latin typeface="Times New Roman"/>
                <a:ea typeface="Times New Roman"/>
              </a:rPr>
              <a:t>in secondo luogo, il prodotto delle azioni umane, cioè le forme dell'organizzazione sociale (strutture e istituzioni) storicamente condensa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er la sociologia relazionale, la relazione sociale è la chiave di ingresso nel soggetto e nell'oggetto che si vuole conoscere, e non vicevers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in quanto la relazione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come realtà </a:t>
            </a:r>
            <a:r>
              <a:rPr b="0" i="1" lang="it-IT" sz="3200" spc="-1" strike="noStrike">
                <a:solidFill>
                  <a:srgbClr val="ffffff"/>
                </a:solidFill>
                <a:latin typeface="Times New Roman"/>
                <a:ea typeface="Times New Roman"/>
              </a:rPr>
              <a:t>sui generi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on è il semplice derivato di qualcosa d'altro (le strutture o l'azione dotata di sens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in quanto rispecchia un ordine proprio di realtà che richiede una specifica attenzion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specifica attenzione è data da un cambiamento nella prospettiva di analisi: studiare non tanto le relazioni tra fatti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quanto studiare i fatti sociali come relazion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alla luce del realismo critico relazion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l mutamento di prospettiva, quindi, non è solo di tipo metodologic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come tale rimanda ad uno specifico paradigm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ma è molto più radic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in quanto presuppone, per Donati, la capacità di attinge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d  un livello più profondo e vero di realtà</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er la sociologia relazion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lla formulazione proposta da Donati 'realismo' significa che la conoscenza può attingere il reale, che è supposto intellegibi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Laddove per realtà si intende ciò che esiste in sé esternamente al pensiero che lo pensa, e quindi ciò che è altro dal soggetto conoscente non coincidendo con la sua conoscenza" (Donat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ggetto dell'analisi è l'agente in interazione che agisce, produce e riproduce con l'azione il sistema di interdipendenza di cui fa par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ggettivo 'critico' indica che i concetti descrittivi ed esplicativi usati in sociologia non sono indipendenti dalla coscienza, intenzionalità e autointerpretazione degli agent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ttori sociali, oggetti della conoscenz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relazionale' significa che la conoscenza si opera attraverso relazioni e che la relazione è oggetto specifico della sociolog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ll'ambito dell'approccio relazion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l 'giudizio di valo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valutazione di teorie e fatti secondo un sistema di valor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affonda le sue radici nell'assunto filosofico di base (relativo al vero/falso) non dimostrabile empiricamente secondo il quale l'uomo è, naturalmente, animale politico e quindi sociale e relazion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oiché la relazione sociale, che vive di e per gli agenti, è intrinsecamente costituita da atti che sono, sempre e comunque e contemporaneamente, dotati di senso e strutturalmente determinati,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e deriva che qualsiasi fenomeno o comportamento sociale che mostri di essere sbilanciato o in un verso o nell'altr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è assunto come indicator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 patologia sociale, di crisi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fferenze tra approccio relazionale e paradigma di rete</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L</a:t>
            </a:r>
            <a:r>
              <a:rPr b="0" lang="he-IL" sz="2800" spc="-1" strike="noStrike">
                <a:solidFill>
                  <a:srgbClr val="ffffff"/>
                </a:solidFill>
                <a:latin typeface="Times New Roman"/>
                <a:ea typeface="Times New Roman"/>
              </a:rPr>
              <a:t>a sociologia relazionale, nella valutazione della capacità esplicativa di alcune teorie (anche quelle che rientrano nel paradigma di rete) non potrà ritenere adeguata e sufficientemente attendibile la teoria strutturalista che 'vede' della relazione solo gli aspetti strutturali, espungendo gli aspetti culturali relativi al senso intenzionato degli attor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per cui la struttura - relazione strutturale -  è assunta come qualcosa che sta fuori dall'individuo)</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osì come non potrà accettare le teorie della scambi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soprattutto quelle di matrice utilitaristica</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he enfatizzando componenti individuali e motivazionali del comportamento dell'agen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sostengono una visione costruttivistica della realtà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e relazioni come prodotto della sola intenzionalità)</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Don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le relazioni sociali sono una categoria del pensiero e della realtà che sta nei fatti</a:t>
            </a: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e relazioni sociali esiston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on sono una pura </a:t>
            </a:r>
            <a:r>
              <a:rPr b="0" lang="it-IT" sz="3200" spc="-1" strike="noStrike">
                <a:solidFill>
                  <a:srgbClr val="ffffff"/>
                </a:solidFill>
                <a:latin typeface="Times New Roman"/>
                <a:ea typeface="Times New Roman"/>
              </a:rPr>
              <a:t>astrazione ment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i chi osserva la real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non sono una proiezione degli individu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costruzione sociale della real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né un prodotto dei sistem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individui e sistemi sono in buona misura prodotti delle relazioni social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esistenza della relazione </a:t>
            </a:r>
            <a:r>
              <a:rPr b="0" i="1" lang="he-IL" sz="3200" spc="-1" strike="noStrike">
                <a:solidFill>
                  <a:srgbClr val="ffffff"/>
                </a:solidFill>
                <a:latin typeface="Times New Roman"/>
                <a:ea typeface="Times New Roman"/>
              </a:rPr>
              <a:t>in r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ome presupposto fondativo di tutta la sociologia relazion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rimanda ad una specifica concezione della natura uman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uomo come animale politico, sociale e relazion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della socie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ntesa come realtà </a:t>
            </a:r>
            <a:r>
              <a:rPr b="0" i="1" lang="he-IL" sz="3200" spc="-1" strike="noStrike">
                <a:solidFill>
                  <a:srgbClr val="ffffff"/>
                </a:solidFill>
                <a:latin typeface="Times New Roman"/>
                <a:ea typeface="Times New Roman"/>
              </a:rPr>
              <a:t>sui generis</a:t>
            </a:r>
            <a:r>
              <a:rPr b="0" lang="he-IL"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possibilità di poter  conoscere, comprendere e analizzare la relazione sociale come realtà </a:t>
            </a:r>
            <a:r>
              <a:rPr b="0" i="1" lang="he-IL" sz="3200" spc="-1" strike="noStrike">
                <a:solidFill>
                  <a:srgbClr val="ffffff"/>
                </a:solidFill>
                <a:latin typeface="Times New Roman"/>
                <a:ea typeface="Times New Roman"/>
              </a:rPr>
              <a:t>in re</a:t>
            </a:r>
            <a:r>
              <a:rPr b="0" lang="he-IL"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vale a dire come realtà 're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he esiste al di fuori delle categorie di analisi usate dall'osservato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ipende dal suo essere una categoria del pensiero e della realt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ono questi gli elementi </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 presupposti filosofici ed epistemologici –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he caratterizzano la sociologia relazionale come approccio conoscitivo, e non come  paradigma</a:t>
            </a:r>
            <a:r>
              <a:rPr b="0" lang="it-IT" sz="3200" spc="-1" strike="noStrike">
                <a:solidFill>
                  <a:srgbClr val="ffffff"/>
                </a:solidFill>
                <a:latin typeface="Times New Roman"/>
                <a:ea typeface="Times New Roman"/>
              </a:rPr>
              <a:t>,</a:t>
            </a:r>
            <a:r>
              <a:rPr b="0" lang="he-IL"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il quale </a:t>
            </a:r>
            <a:r>
              <a:rPr b="0" lang="he-IL" sz="3200" spc="-1" strike="noStrike">
                <a:solidFill>
                  <a:srgbClr val="ffffff"/>
                </a:solidFill>
                <a:latin typeface="Times New Roman"/>
                <a:ea typeface="Times New Roman"/>
              </a:rPr>
              <a:t>non affronta il problema </a:t>
            </a:r>
            <a:r>
              <a:rPr b="0" lang="it-IT" sz="3200" spc="-1" strike="noStrike">
                <a:solidFill>
                  <a:srgbClr val="ffffff"/>
                </a:solidFill>
                <a:latin typeface="Times New Roman"/>
                <a:ea typeface="Times New Roman"/>
              </a:rPr>
              <a:t>dello status ontologico della</a:t>
            </a:r>
            <a:r>
              <a:rPr b="0" lang="he-IL" sz="3200" spc="-1" strike="noStrike">
                <a:solidFill>
                  <a:srgbClr val="ffffff"/>
                </a:solidFill>
                <a:latin typeface="Times New Roman"/>
                <a:ea typeface="Times New Roman"/>
              </a:rPr>
              <a:t> 'realtà' </a:t>
            </a:r>
            <a:r>
              <a:rPr b="0" lang="it-IT" sz="3200" spc="-1" strike="noStrike">
                <a:solidFill>
                  <a:srgbClr val="ffffff"/>
                </a:solidFill>
                <a:latin typeface="Times New Roman"/>
                <a:ea typeface="Times New Roman"/>
              </a:rPr>
              <a:t>che </a:t>
            </a:r>
            <a:r>
              <a:rPr b="0" lang="he-IL" sz="3200" spc="-1" strike="noStrike">
                <a:solidFill>
                  <a:srgbClr val="ffffff"/>
                </a:solidFill>
                <a:latin typeface="Times New Roman"/>
                <a:ea typeface="Times New Roman"/>
              </a:rPr>
              <a:t>si sta studiando e del rapporto tra questa realtà e le categorie mentali dell'osservator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Questo è un modo di porre domande e cercare risposte che non è tipico ed esclusivo dell'analisi struttur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teorie dello scambio e teoria relazionale si muovono, pur nella loro diversità, nello stesso orizzonte, nel tentativo di produrre rappresentazioni del sociale che siano adeguate per comprendere una realtà che è sempre più relazionale e sempre meno descrivibile come sistema coerente fatto di parti e sottosistemi gerarchicamente ordina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Perché leggere la realtà come rete</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Con un </a:t>
            </a:r>
            <a:r>
              <a:rPr b="0" i="1" lang="he-IL" sz="2800" spc="-1" strike="noStrike">
                <a:solidFill>
                  <a:srgbClr val="ffffff"/>
                </a:solidFill>
                <a:latin typeface="Times New Roman"/>
                <a:ea typeface="Times New Roman"/>
              </a:rPr>
              <a:t>incipit</a:t>
            </a:r>
            <a:r>
              <a:rPr b="0" lang="he-IL" sz="2800" spc="-1" strike="noStrike">
                <a:solidFill>
                  <a:srgbClr val="ffffff"/>
                </a:solidFill>
                <a:latin typeface="Times New Roman"/>
                <a:ea typeface="Times New Roman"/>
              </a:rPr>
              <a:t> che vuole essere una dedica, Boudon trasforma l'affermazione di Pareto</a:t>
            </a:r>
            <a:endParaRPr b="0" lang="en-US" sz="2800" spc="-1" strike="noStrike">
              <a:solidFill>
                <a:srgbClr val="000000"/>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 </a:t>
            </a:r>
            <a:r>
              <a:rPr b="0" lang="he-IL" sz="2800" spc="-1" strike="noStrike">
                <a:solidFill>
                  <a:srgbClr val="ffffff"/>
                </a:solidFill>
                <a:latin typeface="Times New Roman"/>
                <a:ea typeface="Times New Roman"/>
              </a:rPr>
              <a:t>secondo il quale "La logica cerca perché un ragionamento è erroneo, la sociologia perché esso ottiene un diffuso consenso“</a:t>
            </a:r>
            <a:endParaRPr b="0" lang="en-US" sz="2800" spc="-1" strike="noStrike">
              <a:solidFill>
                <a:srgbClr val="000000"/>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 </a:t>
            </a:r>
            <a:r>
              <a:rPr b="0" lang="he-IL" sz="2800" spc="-1" strike="noStrike">
                <a:solidFill>
                  <a:srgbClr val="ffffff"/>
                </a:solidFill>
                <a:latin typeface="Times New Roman"/>
                <a:ea typeface="Times New Roman"/>
              </a:rPr>
              <a:t>nel filo conduttore della sua riflessione: </a:t>
            </a:r>
            <a:endParaRPr b="0" lang="en-US" sz="2800" spc="-1" strike="noStrike">
              <a:solidFill>
                <a:srgbClr val="000000"/>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La questione di sapere come e perché si aderisca ad una certa idea, e quali siano, per adottare un'espressione di Pascal, le «forze che ci inducono ad acconsentire»</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arafrasando Boudon, si può sostenere che la lenta, ma prorompente diffusione del paradigma di rete dipende dal fatto che sono in atto forze che ci inducono ad acconsentire, vale a dire ci inducono a ritenerlo un paradigma che meglio si adatta a comprendere e spiegare i meccanismi di funzionamento della società contemporane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ando Donati afferma che la società contemporanea è sempre più relazionale e che il sociale sembra essersi disciolto, rimanda sostanzialmente a due ordini di problem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l problema delle nuove configurazioni sociali che stanno emergendo, per effetto della crescente complessità soci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l problema dei limiti che le tradizionali rappresentazioni - e interpretazioni - del sociale (la 'rappresentazione' organicistica o sistemica, sia nelle versioni funzionaliste che del conflitto) incontrano nel riflettere su, comprendere e spiegare il soci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mergere di nuove configurazioni sociali significa che ogg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al punto di vista dell'attore soci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sso, età, occupazione, ad esempi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n identificano più chiare e precise posizioni sociali, a cui sono connessi altrettanto chiari e precisi ruo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e definiscono e delimitano l'identità del sogget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l punto di vista del sistema, non è più pensabile 'pensarlo', nei suoi meccanismi di funzionamento, come insieme predefinito di parti, funzionalmente e reciprocamente connesse e legate, a confini definiti, per quanto variabili, che modifica le sue strutture interne attraverso un interscambio continuo con l'ambiente, in quanto da un punto di vista analitico è impossibile fissarne i confin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este nuove configurazioni sociali necessitano di nuovi e diversi paradigmi conoscitivi, più adeguati per una loro rappresentazione sociale e sociologic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l paradigma di rete può essere inteso come formulazione </a:t>
            </a:r>
            <a:endParaRPr b="0" lang="en-US" sz="3200" spc="-1" strike="noStrike">
              <a:solidFill>
                <a:srgbClr val="000000"/>
              </a:solidFill>
              <a:latin typeface="Times New Roman"/>
            </a:endParaRPr>
          </a:p>
          <a:p>
            <a:pPr marL="343080" indent="-343080" algn="ct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 se si vuole, tentativo di formulazione –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 una nuova e diversa rappresentazione, che non pretende di dire nulla sulla natura ontologica della realtà e del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l superamento dei concetti di ruolo, posizione e funzione sociale, l'abbandono del concetto di sistema e l'assunzione del concetto di società come rete di reti e di un attore sociale la cui identità è posta nel punto di intersercazioni di molteplici cerchie sociali costituiscono i fattori caratterizzanti del paradigma di ret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lementi, questi, di una nuova e diversa rappresentazione (interpretazione) sociale e sociologica</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l paradigma di rete non pretende di esaurire tutta la real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ale ambizione è, come si è visto, propria dell'approccio relazion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a solo di sondare la capacità euristica di un modo nuovo di porre problemi e cercare soluzioni</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Un autore come White a sostegno della superiorità dell'analisi strutturale e relazionale rispetto a quell</a:t>
            </a:r>
            <a:r>
              <a:rPr b="0" lang="it-IT" sz="3200" spc="-1" strike="noStrike">
                <a:solidFill>
                  <a:srgbClr val="ffffff"/>
                </a:solidFill>
                <a:latin typeface="Times New Roman"/>
                <a:ea typeface="Times New Roman"/>
              </a:rPr>
              <a:t>a</a:t>
            </a:r>
            <a:r>
              <a:rPr b="0" lang="he-IL" sz="3200" spc="-1" strike="noStrike">
                <a:solidFill>
                  <a:srgbClr val="ffffff"/>
                </a:solidFill>
                <a:latin typeface="Times New Roman"/>
                <a:ea typeface="Times New Roman"/>
              </a:rPr>
              <a:t>  «categoriale», cita il generale consenso della teoria sociale classica relativo al passaggio storico dalla concezione che privilegia le differenziazioni categoriche e gli attributi degli individui alla concezione che privilegia l'aspetto relazionale nella definizione della posizione sociale degli individui stessi</a:t>
            </a: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analisi strutturale, la sua lenta diffusione anche come metodo di raccolta, trattamento e interpretazione dei dati, possono essere imputati al fatto che, pur avendo sviluppato un ragionamento non totalmente condivisibile e condiviso, la </a:t>
            </a:r>
            <a:r>
              <a:rPr b="0" i="1" lang="he-IL" sz="3200" spc="-1" strike="noStrike">
                <a:solidFill>
                  <a:srgbClr val="ffffff"/>
                </a:solidFill>
                <a:latin typeface="Times New Roman"/>
                <a:ea typeface="MS Mincho"/>
              </a:rPr>
              <a:t>network analysis</a:t>
            </a:r>
            <a:r>
              <a:rPr b="0" lang="he-IL" sz="3200" spc="-1" strike="noStrike">
                <a:solidFill>
                  <a:srgbClr val="ffffff"/>
                </a:solidFill>
                <a:latin typeface="Times New Roman"/>
                <a:ea typeface="MS Mincho"/>
              </a:rPr>
              <a:t> ha contribuito a fare maturare una nuova rappresentazione del soci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Questa trasformazione è riconoscibile nel passaggio dalla condizione di status a quella contrattuale, dalla dimensione ascrittiva a quella acquisi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econdo White la società moderna è quindi una società eminentemente relazionale sorta dalle trasformazioni di una società basata sugli attributi degli individu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n questa ottica il metodo della </a:t>
            </a:r>
            <a:r>
              <a:rPr b="0" i="1" lang="it-IT" sz="3200" spc="-1" strike="noStrike">
                <a:solidFill>
                  <a:srgbClr val="ffffff"/>
                </a:solidFill>
                <a:latin typeface="Times New Roman"/>
                <a:ea typeface="Times New Roman"/>
              </a:rPr>
              <a:t>network analysis</a:t>
            </a:r>
            <a:r>
              <a:rPr b="0" lang="it-IT" sz="3200" spc="-1" strike="noStrike">
                <a:solidFill>
                  <a:srgbClr val="ffffff"/>
                </a:solidFill>
                <a:latin typeface="Times New Roman"/>
                <a:ea typeface="Times New Roman"/>
              </a:rPr>
              <a:t> sarebbe superiore perché più adeguato alla natura della società moder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MS Mincho"/>
              </a:rPr>
              <a:t>La dialettica tra globalizzazione e recrudescenza di particolarismi, localismi etnici, culturali, che tendono a ricomporre unità territoriali, religiose, etniche e culturali, frammentando il concetto stesso di appartenenza nazionale, così come si è imposto nella passata (ma certamente non pluri-secolare) storia europea, </a:t>
            </a: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MS Mincho"/>
              </a:rPr>
              <a:t>ben può essere </a:t>
            </a:r>
            <a:r>
              <a:rPr b="0" lang="it-IT" sz="2800" spc="-1" strike="noStrike">
                <a:solidFill>
                  <a:srgbClr val="ffffff"/>
                </a:solidFill>
                <a:latin typeface="Times New Roman"/>
                <a:ea typeface="MS Mincho"/>
              </a:rPr>
              <a:t>'immaginata' e 'parlata‘</a:t>
            </a: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MS Mincho"/>
              </a:rPr>
              <a:t> </a:t>
            </a:r>
            <a:r>
              <a:rPr b="0" lang="it-IT" sz="2800" spc="-1" strike="noStrike">
                <a:solidFill>
                  <a:srgbClr val="ffffff"/>
                </a:solidFill>
                <a:latin typeface="Times New Roman"/>
                <a:ea typeface="MS Mincho"/>
              </a:rPr>
              <a:t>dal punto di vista dell'attore sociale</a:t>
            </a: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MS Mincho"/>
              </a:rPr>
              <a:t> </a:t>
            </a:r>
            <a:r>
              <a:rPr b="0" lang="it-IT" sz="2800" spc="-1" strike="noStrike">
                <a:solidFill>
                  <a:srgbClr val="ffffff"/>
                </a:solidFill>
                <a:latin typeface="Times New Roman"/>
                <a:ea typeface="MS Mincho"/>
              </a:rPr>
              <a:t>come rete di relazioni, al cui interno distanza / vicinanza, distacco / contiguità, universalismo / particolarismo, differenza / somiglianza assumono significati completamente nuovi </a:t>
            </a: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Certamente non più collocabili, come esperienza di vita concreta e modelli di comportamen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 </a:t>
            </a:r>
            <a:r>
              <a:rPr b="0" lang="he-IL" sz="3200" spc="-1" strike="noStrike">
                <a:solidFill>
                  <a:srgbClr val="ffffff"/>
                </a:solidFill>
                <a:latin typeface="Times New Roman"/>
                <a:ea typeface="MS Mincho"/>
              </a:rPr>
              <a:t>entro spazi socio-culturali distinti, separati, chiaramente ed univocamente 'ordina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E' una dialettica che ben può essere 'osservata' e 'rappresentata' dal paradigma di rete che assume la società come un rete di reti, potenzialmente senza confini, se non quelli delimitati dall'azione concreta degli attori sociali e dai sistemi di interdipendenza attivi e attiva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Nuova prospettiva di analisi</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a prospettiva con la quale il paradigma di rete guarda la realtà può essere sintetizzata nei termini seguenti:</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la realtà sociale non è fatta di individui che agiscono in base ad una specifica intenzionalità; la realtà sociale non è fatta di istitu</a:t>
            </a:r>
            <a:fld id="{67E21F6A-34A8-4532-874C-3E35A4785F44}" type="slidenum">
              <a:rPr b="0" lang="it-IT" sz="2800" spc="-1" strike="noStrike">
                <a:solidFill>
                  <a:srgbClr val="ffffff"/>
                </a:solidFill>
                <a:latin typeface="Times New Roman"/>
                <a:ea typeface="Times New Roman"/>
              </a:rPr>
              <a:t>&lt;number&gt;</a:t>
            </a:fld>
            <a:r>
              <a:rPr b="0" lang="it-IT" sz="2800" spc="-1" strike="noStrike">
                <a:solidFill>
                  <a:srgbClr val="ffffff"/>
                </a:solidFill>
                <a:latin typeface="Times New Roman"/>
                <a:ea typeface="Times New Roman"/>
              </a:rPr>
              <a:t>zioni che si impongono all'individuo. Non esiste l'individuo inteso come atomo più o meno socializzato, non esiste la società come ente esterno, come fatto sociale 'esterno e coercitivo';</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la realtà sociale è fatta di relazioni sociali: l'individuo esiste sempre 'in relazione con' con un </a:t>
            </a:r>
            <a:r>
              <a:rPr b="0" i="1" lang="it-IT" sz="3200" spc="-1" strike="noStrike">
                <a:solidFill>
                  <a:srgbClr val="ffffff"/>
                </a:solidFill>
                <a:latin typeface="Times New Roman"/>
                <a:ea typeface="Times New Roman"/>
              </a:rPr>
              <a:t>alter</a:t>
            </a:r>
            <a:r>
              <a:rPr b="0" lang="it-IT" sz="3200" spc="-1" strike="noStrike">
                <a:solidFill>
                  <a:srgbClr val="ffffff"/>
                </a:solidFill>
                <a:latin typeface="Times New Roman"/>
                <a:ea typeface="Times New Roman"/>
              </a:rPr>
              <a:t> e nel momento in cui è in relazione diventa socie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la società si attualizza, diventa reale e visibile solo attraverso le relazioni che connettono gli individui: la società è fatta di reti, è una rete di reti, quindi potenzialmente non ha confin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identità dell'attore sociale non è il risultato di norme, valori, modelli di comportamento, di un linguaggio interiorizzati e assimilati sin dai primi anni di vita, ma è posta nel punto di intersecazione di più ret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erchie)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Questo significa che se analiticamente e teoricamente è possibile circoscrivere e definire le aspettative di comportamento connesse ad uno specifico ruolo, empiricamente il comportamento dell'attore sociale anche in situazioni sociali molto definite e/o istituzionalizzate sarà in funzione delle sue reti di riferimento</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questo perché la sua identità è il risultato dell'appartenenza ad una molteplicità di sfere di relazion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metafora dell' 'io molteplice' coglie perfettamente il lascito drammatico della modernità</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l bisogno e la responsabilità di </a:t>
            </a:r>
            <a:r>
              <a:rPr b="0" i="1" lang="he-IL" sz="3200" spc="-1" strike="noStrike">
                <a:solidFill>
                  <a:srgbClr val="ffffff"/>
                </a:solidFill>
                <a:latin typeface="Times New Roman"/>
                <a:ea typeface="Times New Roman"/>
              </a:rPr>
              <a:t>esistere come individui</a:t>
            </a:r>
            <a:r>
              <a:rPr b="0" lang="he-IL" sz="3200" spc="-1" strike="noStrike">
                <a:solidFill>
                  <a:srgbClr val="ffffff"/>
                </a:solidFill>
                <a:latin typeface="Times New Roman"/>
                <a:ea typeface="Times New Roman"/>
              </a:rPr>
              <a:t>. Di essere cioè soggetti di azione capaci di direzione e di senso, ma anche poli di una rete di convivenza e di comunicazion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Meluc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a </a:t>
            </a:r>
            <a:r>
              <a:rPr b="0" i="1" lang="he-IL" sz="3200" spc="-1" strike="noStrike">
                <a:solidFill>
                  <a:srgbClr val="ffffff"/>
                </a:solidFill>
                <a:latin typeface="Times New Roman"/>
                <a:ea typeface="MS Mincho"/>
              </a:rPr>
              <a:t>network analysis</a:t>
            </a:r>
            <a:r>
              <a:rPr b="0" lang="he-IL" sz="3200" spc="-1" strike="noStrike">
                <a:solidFill>
                  <a:srgbClr val="ffffff"/>
                </a:solidFill>
                <a:latin typeface="Times New Roman"/>
                <a:ea typeface="MS Mincho"/>
              </a:rPr>
              <a:t> ha rinnovato la diatriba tra micro e macro, tra olismo ed individualismo metodologico, assumendo la rete come rappresentazione del sociale, le relazioni sociali come elementi costitutiv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perché i soli reali, nel senso di empiricamente verificabili e sperimentabi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della realtà soc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identità dell'attore sociale come 'precipitato' delle sfere di appartenenza</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realtà della modernità non è più fatta di reti concentriche, ma di reti poste in uno spazio multidimensionale, che si intersecano in alcuni punti. </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la intuizione di G.Simmel, questa affermazione ha anticipato di molti anni una delle caratteristiche </a:t>
            </a:r>
            <a:r>
              <a:rPr b="0" lang="it-IT" sz="3200" spc="-1" strike="noStrike">
                <a:solidFill>
                  <a:srgbClr val="ffffff"/>
                </a:solidFill>
                <a:latin typeface="Times New Roman"/>
                <a:ea typeface="Times New Roman"/>
              </a:rPr>
              <a:t>della modernit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perdita di un centro, di un principio ordinatore che informava tutta la realtà sociale procedendo dal macro verso il micro</a:t>
            </a:r>
            <a:r>
              <a:rPr b="0" lang="it-IT" sz="3200" spc="-1" strike="noStrike">
                <a:solidFill>
                  <a:srgbClr val="ffffff"/>
                </a:solidFill>
                <a:latin typeface="Times New Roman"/>
              </a:rPr>
              <a:t> </a:t>
            </a:r>
            <a:r>
              <a:rPr b="0" lang="he-IL" sz="3200" spc="-1" strike="noStrike">
                <a:solidFill>
                  <a:srgbClr val="ffffff"/>
                </a:solidFill>
                <a:latin typeface="Times New Roman"/>
                <a:ea typeface="Times New Roman"/>
              </a:rPr>
              <a:t>creando cerchie concentriche simili dal punto di vista dei meccanismi di funzionamento e del principio ordinatore, per quanto differenti dal punto di vista funzion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la moderni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i troviamo poi coinvolti in una pluralità di appartenenze che scaturiscon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alla moltiplicazion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elle posizioni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elle reti associativ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ei gruppi di riferimento</a:t>
            </a:r>
            <a:r>
              <a:rPr b="0" lang="it-IT"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Meluc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ntriamo ed usciamo da questi sistemi molto più spesso e più velocemente che in passato, animali migranti nei labirinti della metropo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viaggiatori del pianeta, nomadi del presen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artecipiam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nella realtà o nell'immaginari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i una infinità di mondi</a:t>
            </a:r>
            <a:r>
              <a:rPr b="0" lang="it-IT"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Meluc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iascuno di essi caratterizzato d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una cultur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un linguaggi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un insieme di ruoli e di rego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ai quali ci dobbiamo adattare ogni volta che migriamo dall'uno all'altr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Melucc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Rete dunque come metafora dell’appartenenza di un attore sociale che vive tutti i vantaggi e gli svantaggi della modernità liquid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Times New Roman"/>
                <a:ea typeface="Times New Roman"/>
              </a:rPr>
              <a:t>Grazie per l’attenzio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Times New Roman"/>
                <a:ea typeface="Times New Roman"/>
              </a:rPr>
              <a:t>Paola Di Nico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Assumendo, quindi, la rete come metafora dell'appartenenza nelle società complesse, come perno dei processi di costruzione e formazione dell'identità</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ff"/>
                </a:solidFill>
                <a:latin typeface="Times New Roman"/>
                <a:ea typeface="MS Mincho"/>
              </a:rPr>
              <a:t>Le matrici di un nuovo paradigma</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a:t>
            </a:r>
            <a:r>
              <a:rPr b="0" lang="he-IL" sz="2800" spc="-1" strike="noStrike">
                <a:solidFill>
                  <a:srgbClr val="ffffff"/>
                </a:solidFill>
                <a:latin typeface="Times New Roman"/>
                <a:ea typeface="Times New Roman"/>
              </a:rPr>
              <a:t>'ingresso nell'uso corrente dell'espressione '</a:t>
            </a:r>
            <a:r>
              <a:rPr b="0" i="1" lang="he-IL" sz="2800" spc="-1" strike="noStrike">
                <a:solidFill>
                  <a:srgbClr val="ffffff"/>
                </a:solidFill>
                <a:latin typeface="Times New Roman"/>
                <a:ea typeface="Times New Roman"/>
              </a:rPr>
              <a:t>network analysis</a:t>
            </a:r>
            <a:r>
              <a:rPr b="0" lang="he-IL" sz="2800" spc="-1" strike="noStrike">
                <a:solidFill>
                  <a:srgbClr val="ffffff"/>
                </a:solidFill>
                <a:latin typeface="Times New Roman"/>
                <a:ea typeface="Times New Roman"/>
              </a:rPr>
              <a:t>' per indicare, contemporaneamente, l'approccio teorico e la complessa, ricca ed articolata strumentazione empirica con cui si studia un segmento della realtà sociale come rete, dimostra come, all'interno di questo particolare ambito di studi, gli elementi empirici, nel senso di tecniche di trattamento dei dati, tendono ancora, per molti aspetti, a prevalere, rendendo difficile una precisa collocazione teorica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della </a:t>
            </a:r>
            <a:r>
              <a:rPr b="0" i="1" lang="he-IL" sz="2800" spc="-1" strike="noStrike">
                <a:solidFill>
                  <a:srgbClr val="ffffff"/>
                </a:solidFill>
                <a:latin typeface="Times New Roman"/>
                <a:ea typeface="Times New Roman"/>
              </a:rPr>
              <a:t>network analysis</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Banalizzando il problem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renderlo di più immediata comprension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i può dire che diffusa è la consapevolezza tra gli studiosi ch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comprendere e spiegare alcuni fenomeni o processi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nalisi strutturale 'funzio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nche se non sempre è chiaro 'perché' funzion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Vale a dire non sempre è chiaro quale sia il rapporto tra l'assunzione di una specifica e particolare chiave di lettura della realtà sociale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a realtà vista come rete, e non più, come sistema)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e i meccanismi di funzionamento della stessa realtà: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è questo il senso dell'espressione "una tecnica in cerca di una teoria“ che si usa per parlare della </a:t>
            </a:r>
            <a:r>
              <a:rPr b="0" i="1" lang="it-IT" sz="2800" spc="-1" strike="noStrike">
                <a:solidFill>
                  <a:srgbClr val="ffffff"/>
                </a:solidFill>
                <a:latin typeface="Times New Roman"/>
                <a:ea typeface="Times New Roman"/>
              </a:rPr>
              <a:t>network analysis</a:t>
            </a:r>
            <a:endParaRPr b="0" lang="en-US" sz="2800" spc="-1" strike="noStrike">
              <a:solidFill>
                <a:srgbClr val="000000"/>
              </a:solidFill>
              <a:latin typeface="Times New Roman"/>
            </a:endParaRPr>
          </a:p>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Tutti i riferimenti i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 Di Nicola, </a:t>
            </a:r>
            <a:r>
              <a:rPr b="0" i="1" lang="it-IT" sz="3200" spc="-1" strike="noStrike">
                <a:solidFill>
                  <a:srgbClr val="ffffff"/>
                </a:solidFill>
                <a:latin typeface="Times New Roman"/>
                <a:ea typeface="Times New Roman"/>
              </a:rPr>
              <a:t>La rete: metafora dell’appartenenz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Times New Roman"/>
                <a:ea typeface="Times New Roman"/>
              </a:rPr>
              <a:t>Analisi strutturale e paradigma di rete</a:t>
            </a: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ngeli, Milano, I edizione 1998</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e matrici teoriche della </a:t>
            </a:r>
            <a:r>
              <a:rPr b="0" i="1" lang="he-IL" sz="4400" spc="-1" strike="noStrike">
                <a:solidFill>
                  <a:srgbClr val="ffffff"/>
                </a:solidFill>
                <a:latin typeface="Times New Roman"/>
                <a:ea typeface="Times New Roman"/>
              </a:rPr>
              <a:t>network analisys</a:t>
            </a:r>
            <a:r>
              <a:rPr b="0" lang="he-IL" sz="4400" spc="-1" strike="noStrike">
                <a:solidFill>
                  <a:srgbClr val="ffffff"/>
                </a:solidFill>
                <a:latin typeface="Times New Roman"/>
                <a:ea typeface="Times New Roman"/>
              </a:rPr>
              <a:t> per </a:t>
            </a:r>
            <a:r>
              <a:rPr b="0" lang="it-IT" sz="4400" spc="-1" strike="noStrike">
                <a:solidFill>
                  <a:srgbClr val="ffffff"/>
                </a:solidFill>
                <a:latin typeface="Times New Roman"/>
                <a:ea typeface="Times New Roman"/>
              </a:rPr>
              <a:t>R. </a:t>
            </a:r>
            <a:r>
              <a:rPr b="0" lang="he-IL" sz="4400" spc="-1" strike="noStrike">
                <a:solidFill>
                  <a:srgbClr val="ffffff"/>
                </a:solidFill>
                <a:latin typeface="Times New Roman"/>
                <a:ea typeface="Times New Roman"/>
              </a:rPr>
              <a:t>Collins</a:t>
            </a:r>
            <a:r>
              <a:rPr b="0" lang="it-IT" sz="4400" spc="-1" strike="noStrike">
                <a:solidFill>
                  <a:srgbClr val="ffffff"/>
                </a:solidFill>
                <a:latin typeface="Times New Roman"/>
                <a:ea typeface="Times New Roman"/>
              </a:rPr>
              <a:t> e Scott</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R. Collins, nel suo tentativo di rintracciare il </a:t>
            </a:r>
            <a:r>
              <a:rPr b="0" i="1" lang="it-IT" sz="2800" spc="-1" strike="noStrike">
                <a:solidFill>
                  <a:srgbClr val="ffffff"/>
                </a:solidFill>
                <a:latin typeface="Times New Roman"/>
                <a:ea typeface="Times New Roman"/>
              </a:rPr>
              <a:t>quid </a:t>
            </a:r>
            <a:r>
              <a:rPr b="0" lang="it-IT" sz="2800" spc="-1" strike="noStrike">
                <a:solidFill>
                  <a:srgbClr val="ffffff"/>
                </a:solidFill>
                <a:latin typeface="Times New Roman"/>
                <a:ea typeface="Times New Roman"/>
              </a:rPr>
              <a:t>sociologico che potrebbe fare della </a:t>
            </a:r>
            <a:r>
              <a:rPr b="0" i="1" lang="it-IT" sz="2800" spc="-1" strike="noStrike">
                <a:solidFill>
                  <a:srgbClr val="ffffff"/>
                </a:solidFill>
                <a:latin typeface="Times New Roman"/>
                <a:ea typeface="Times New Roman"/>
              </a:rPr>
              <a:t>network analysis</a:t>
            </a:r>
            <a:r>
              <a:rPr b="0" lang="it-IT" sz="2800" spc="-1" strike="noStrike">
                <a:solidFill>
                  <a:srgbClr val="ffffff"/>
                </a:solidFill>
                <a:latin typeface="Times New Roman"/>
                <a:ea typeface="Times New Roman"/>
              </a:rPr>
              <a:t> una teoria e non più solo una tecnica spazia dallo strutturalismo alla teoria dello scambio </a:t>
            </a:r>
            <a:endParaRPr b="0" lang="en-US" sz="28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a M.Mauss a C. Lévi-Straus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alla macroteoria di P.M. Blau sull'integrazione sociale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alla teoria di N.Lin sulla mobilità social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ricostruendo un articolato e complesso mosaico di approcci, teorie e modelli di medio o ampio raggio 'arricchiti‘, corroborati</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più che rifondat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alla </a:t>
            </a:r>
            <a:r>
              <a:rPr b="0" i="1" lang="it-IT" sz="2800" spc="-1" strike="noStrike">
                <a:solidFill>
                  <a:srgbClr val="ffffff"/>
                </a:solidFill>
                <a:latin typeface="Times New Roman"/>
                <a:ea typeface="Times New Roman"/>
              </a:rPr>
              <a:t>network 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n un contributo del 1991 John Scott si prefigge lo scopo di presentare in maniera semplic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evitando come lui stesso dice le complicazioni matematiche</a:t>
            </a:r>
            <a:r>
              <a:rPr b="0" lang="it-IT" sz="3200" spc="-1" strike="noStrike">
                <a:solidFill>
                  <a:srgbClr val="ffffff"/>
                </a:solidFill>
                <a:latin typeface="Times New Roman"/>
                <a:ea typeface="Times New Roman"/>
              </a:rPr>
              <a:t>,</a:t>
            </a:r>
            <a:r>
              <a:rPr b="0" lang="he-IL" sz="3200" spc="-1" strike="noStrike">
                <a:solidFill>
                  <a:srgbClr val="ffffff"/>
                </a:solidFill>
                <a:latin typeface="Times New Roman"/>
                <a:ea typeface="Times New Roman"/>
              </a:rPr>
              <a:t> confinate nelle note</a:t>
            </a:r>
            <a:r>
              <a:rPr b="0" lang="it-IT" sz="3200" spc="-1" strike="noStrike">
                <a:solidFill>
                  <a:srgbClr val="ffffff"/>
                </a:solidFill>
                <a:latin typeface="Times New Roman"/>
                <a:ea typeface="Times New Roman"/>
              </a:rPr>
              <a:t>,</a:t>
            </a:r>
            <a:r>
              <a:rPr b="0" lang="he-IL" sz="3200" spc="-1" strike="noStrike">
                <a:solidFill>
                  <a:srgbClr val="ffffff"/>
                </a:solidFill>
                <a:latin typeface="Times New Roman"/>
                <a:ea typeface="Times New Roman"/>
              </a:rPr>
              <a:t> che possono spaventare il lettor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iscorsiva ma documentata le tecniche dell'analisi struttur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enza avere la pretesa di agganciare la </a:t>
            </a:r>
            <a:r>
              <a:rPr b="0" i="1" lang="he-IL" sz="3200" spc="-1" strike="noStrike">
                <a:solidFill>
                  <a:srgbClr val="ffffff"/>
                </a:solidFill>
                <a:latin typeface="Times New Roman"/>
                <a:ea typeface="Times New Roman"/>
              </a:rPr>
              <a:t>network</a:t>
            </a:r>
            <a:r>
              <a:rPr b="0" lang="he-IL" sz="3200" spc="-1" strike="noStrike">
                <a:solidFill>
                  <a:srgbClr val="ffffff"/>
                </a:solidFill>
                <a:latin typeface="Times New Roman"/>
                <a:ea typeface="Times New Roman"/>
              </a:rPr>
              <a:t> ad una particolare, specifica o se si vuole nuova teoria sociologic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Scott ripercorre il cammino che ha portato alla </a:t>
            </a:r>
            <a:r>
              <a:rPr b="0" i="1" lang="he-IL" sz="3200" spc="-1" strike="noStrike">
                <a:solidFill>
                  <a:srgbClr val="ffffff"/>
                </a:solidFill>
                <a:latin typeface="Times New Roman"/>
                <a:ea typeface="Times New Roman"/>
              </a:rPr>
              <a:t>network analysi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rappresentandone anche graficamente la genealogia</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imes New Roman"/>
              </a:rPr>
              <a:t>La genealogia e lo sviluppo della</a:t>
            </a:r>
            <a:br>
              <a:rPr sz="4400"/>
            </a:br>
            <a:r>
              <a:rPr b="0" lang="it-IT" sz="4400" spc="-1" strike="noStrike">
                <a:solidFill>
                  <a:srgbClr val="ffffff"/>
                </a:solidFill>
                <a:latin typeface="Times New Roman"/>
              </a:rPr>
              <a:t>Social network Analysis</a:t>
            </a:r>
            <a:endParaRPr b="0" lang="en-US" sz="4400" spc="-1" strike="noStrike">
              <a:solidFill>
                <a:srgbClr val="000000"/>
              </a:solidFill>
              <a:latin typeface="Times New Roman"/>
            </a:endParaRPr>
          </a:p>
        </p:txBody>
      </p:sp>
      <p:graphicFrame>
        <p:nvGraphicFramePr>
          <p:cNvPr id="69" name=""/>
          <p:cNvGraphicFramePr/>
          <p:nvPr/>
        </p:nvGraphicFramePr>
        <p:xfrm>
          <a:off x="685800" y="1981080"/>
          <a:ext cx="7772400" cy="4459320"/>
        </p:xfrm>
        <a:graphic>
          <a:graphicData uri="http://schemas.openxmlformats.org/drawingml/2006/table">
            <a:tbl>
              <a:tblPr/>
              <a:tblGrid>
                <a:gridCol w="2590920"/>
                <a:gridCol w="2590560"/>
                <a:gridCol w="25909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estalt theor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tructural-functona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nthropolog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Field theor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ociomet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Warne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May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Gluckma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Group dymanic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Homa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Barnes, Bott, Nade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Graph the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Mitchel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Harvard Structuralis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ocial Networ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Analysi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200400" y="27432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lla parte sinistra della figura Scott mett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in vertic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la teoria della Gestal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quindi la teoria del campo e la sociometr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le dinamiche di grupp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d infine la teoria dei graf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Nella parte destra individu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una matrice comune data dall'antropologia struttural-funzionalist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a cui si dipartono due linee vertic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prima che da Warner e Mayo giunge a Homan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seconda che da Gluckman giunge a Mitchell, passando per Barnes, Bott e Na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a:t>
            </a:r>
            <a:r>
              <a:rPr b="0" i="1" lang="he-IL" sz="3200" spc="-1" strike="noStrike">
                <a:solidFill>
                  <a:srgbClr val="ffffff"/>
                </a:solidFill>
                <a:latin typeface="Times New Roman"/>
                <a:ea typeface="Times New Roman"/>
              </a:rPr>
              <a:t>social network analysis</a:t>
            </a:r>
            <a:r>
              <a:rPr b="0" lang="he-IL" sz="3200" spc="-1" strike="noStrike">
                <a:solidFill>
                  <a:srgbClr val="ffffff"/>
                </a:solidFill>
                <a:latin typeface="Times New Roman"/>
                <a:ea typeface="Times New Roman"/>
              </a:rPr>
              <a:t>' sarebbe, per Scott, una sorta di precipitato delle influenze e delle connessioni che uniscono le due linee verticali (le due matrici centrali): le dinamiche di gruppo sarebbero alla base delle riflessioni di Homans, di Barnes, Bott e Nadel ed il punto di partenza degli Strutturalisti di Harvard; la teoria dei grafi costituisce il </a:t>
            </a:r>
            <a:r>
              <a:rPr b="0" i="1" lang="he-IL" sz="3200" spc="-1" strike="noStrike">
                <a:solidFill>
                  <a:srgbClr val="ffffff"/>
                </a:solidFill>
                <a:latin typeface="Times New Roman"/>
                <a:ea typeface="Times New Roman"/>
              </a:rPr>
              <a:t>background</a:t>
            </a:r>
            <a:r>
              <a:rPr b="0" lang="he-IL" sz="3200" spc="-1" strike="noStrike">
                <a:solidFill>
                  <a:srgbClr val="ffffff"/>
                </a:solidFill>
                <a:latin typeface="Times New Roman"/>
                <a:ea typeface="Times New Roman"/>
              </a:rPr>
              <a:t> formale di Mitchel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empre secondo Scott si deve a Harrison White (Università di Harvard) il merito, approfondendo le basi matematiche della struttura sociale, di avere fuso insieme le intuizioni centrali dei suoi predecessori nordamericani e di avere creato una sintes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ttraverso le carriere professionali dei suoi allievi, "The arguments of White and the work of the British researchers were united into a complex but increasingly coherent framework of social network analysis" (Scot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Prefazione</a:t>
            </a:r>
            <a:br>
              <a:rPr sz="4400"/>
            </a:b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Agli inizi degli anni ’80 del secolo scorso molti segnali indicano la lenta transizione verso nuovi modelli di analisi della realtà soci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e matrici teoriche del paradigma di rete</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Se le categorie interpretative di tipo 'relazionale' sono le più adatte a studiare una realtà, una società che è sempre più 'relazionale', le possibilità per la </a:t>
            </a:r>
            <a:r>
              <a:rPr b="0" i="1" lang="he-IL" sz="2800" spc="-1" strike="noStrike">
                <a:solidFill>
                  <a:srgbClr val="ffffff"/>
                </a:solidFill>
                <a:latin typeface="Times New Roman"/>
                <a:ea typeface="Times New Roman"/>
              </a:rPr>
              <a:t>network analysis</a:t>
            </a:r>
            <a:r>
              <a:rPr b="0" lang="he-IL" sz="2800" spc="-1" strike="noStrike">
                <a:solidFill>
                  <a:srgbClr val="ffffff"/>
                </a:solidFill>
                <a:latin typeface="Times New Roman"/>
                <a:ea typeface="Times New Roman"/>
              </a:rPr>
              <a:t> di transitare dal piano della tecnica, al piano della teoria dipendono dalla sua capacità di potere fare riferimento ad un approccio conoscitivo, vale a dire di poter trovare un aggancio teorico ed epistemologico ad  una "Teoria complessa (o globale) sull'</a:t>
            </a:r>
            <a:r>
              <a:rPr b="0" i="1" lang="he-IL" sz="2800" spc="-1" strike="noStrike">
                <a:solidFill>
                  <a:srgbClr val="ffffff"/>
                </a:solidFill>
                <a:latin typeface="Times New Roman"/>
                <a:ea typeface="Times New Roman"/>
              </a:rPr>
              <a:t>intera realtà sociale</a:t>
            </a:r>
            <a:r>
              <a:rPr b="0" lang="he-IL" sz="2800" spc="-1" strike="noStrike">
                <a:solidFill>
                  <a:srgbClr val="ffffff"/>
                </a:solidFill>
                <a:latin typeface="Times New Roman"/>
                <a:ea typeface="Times New Roman"/>
              </a:rPr>
              <a:t> (non su singoli aspetti o fenomeni)"(P. Donat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Questa capacità si misura non tanto dal suo diventare un </a:t>
            </a:r>
            <a:r>
              <a:rPr b="0" i="1" lang="he-IL" sz="3200" spc="-1" strike="noStrike">
                <a:solidFill>
                  <a:srgbClr val="ffffff"/>
                </a:solidFill>
                <a:latin typeface="Times New Roman"/>
                <a:ea typeface="Times New Roman"/>
              </a:rPr>
              <a:t>framework</a:t>
            </a:r>
            <a:r>
              <a:rPr b="0" lang="he-IL" sz="3200" spc="-1" strike="noStrike">
                <a:solidFill>
                  <a:srgbClr val="ffffff"/>
                </a:solidFill>
                <a:latin typeface="Times New Roman"/>
                <a:ea typeface="Times New Roman"/>
              </a:rPr>
              <a:t> complesso, coerente e in continua espansio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quanto dal suo produrre </a:t>
            </a:r>
            <a:r>
              <a:rPr b="0" lang="it-IT" sz="3200" spc="-1" strike="noStrike">
                <a:solidFill>
                  <a:srgbClr val="ffffff"/>
                </a:solidFill>
                <a:latin typeface="Times New Roman"/>
                <a:ea typeface="Times New Roman"/>
              </a:rPr>
              <a:t>(o riconnettersi a) </a:t>
            </a:r>
            <a:r>
              <a:rPr b="0" lang="he-IL" sz="3200" spc="-1" strike="noStrike">
                <a:solidFill>
                  <a:srgbClr val="ffffff"/>
                </a:solidFill>
                <a:latin typeface="Times New Roman"/>
                <a:ea typeface="Times New Roman"/>
              </a:rPr>
              <a:t>una teoria complessa in grado di comprendere e spiega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l livello meso della socie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andando oltre il livello micro e macro</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osì come la realtà sociale non può essere considerata un </a:t>
            </a:r>
            <a:r>
              <a:rPr b="0" i="1" lang="he-IL" sz="3200" spc="-1" strike="noStrike">
                <a:solidFill>
                  <a:srgbClr val="ffffff"/>
                </a:solidFill>
                <a:latin typeface="Times New Roman"/>
                <a:ea typeface="Times New Roman"/>
              </a:rPr>
              <a:t>patchwork</a:t>
            </a:r>
            <a:r>
              <a:rPr b="0" lang="he-IL" sz="3200" spc="-1" strike="noStrike">
                <a:solidFill>
                  <a:srgbClr val="ffffff"/>
                </a:solidFill>
                <a:latin typeface="Times New Roman"/>
                <a:ea typeface="Times New Roman"/>
              </a:rPr>
              <a:t> di punti, un approccio conoscitivo non può essere dato dalla somma di tecniche sempre più raffinate e complesse, né tantomeno dalla ottimizzazione di spunti, sollecitazioni e teorie prodotte a livello di micro interazioni (individuali o di piccoli gruppi</a:t>
            </a:r>
            <a:r>
              <a:rPr b="0" lang="it-IT" sz="3200" spc="-1" strike="noStrike">
                <a:solidFill>
                  <a:srgbClr val="ffffff"/>
                </a:solidFill>
                <a:latin typeface="Times New Roman"/>
                <a:ea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Questo è il </a:t>
            </a:r>
            <a:r>
              <a:rPr b="0" i="1" lang="it-IT" sz="3200" spc="-1" strike="noStrike">
                <a:solidFill>
                  <a:srgbClr val="ffffff"/>
                </a:solidFill>
                <a:latin typeface="Times New Roman"/>
                <a:ea typeface="Times New Roman"/>
              </a:rPr>
              <a:t>frame</a:t>
            </a:r>
            <a:r>
              <a:rPr b="0" lang="it-IT" sz="3200" spc="-1" strike="noStrike">
                <a:solidFill>
                  <a:srgbClr val="ffffff"/>
                </a:solidFill>
                <a:latin typeface="Times New Roman"/>
                <a:ea typeface="Times New Roman"/>
              </a:rPr>
              <a:t> teorico </a:t>
            </a:r>
            <a:r>
              <a:rPr b="0" lang="it-IT" sz="3200" spc="-1" strike="noStrike">
                <a:solidFill>
                  <a:srgbClr val="ffffff"/>
                </a:solidFill>
                <a:latin typeface="Times New Roman"/>
              </a:rPr>
              <a:t> descitto da J.Scot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genealogia proposta da Scott deve dunque essere ampliata, sia in senso verticale che orizzonta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e dilatata nel tempo per includere nello schema quelle matrici teoriche che consentono di leggere la realtà come rete, appunto perché definiscono la società come ret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a sociologia formale di </a:t>
            </a:r>
            <a:br>
              <a:rPr sz="4400"/>
            </a:br>
            <a:r>
              <a:rPr b="0" lang="it-IT" sz="4400" spc="-1" strike="noStrike">
                <a:solidFill>
                  <a:srgbClr val="ffffff"/>
                </a:solidFill>
                <a:latin typeface="Times New Roman"/>
                <a:ea typeface="Times New Roman"/>
              </a:rPr>
              <a:t>G. </a:t>
            </a:r>
            <a:r>
              <a:rPr b="0" lang="he-IL" sz="4400" spc="-1" strike="noStrike">
                <a:solidFill>
                  <a:srgbClr val="ffffff"/>
                </a:solidFill>
                <a:latin typeface="Times New Roman"/>
                <a:ea typeface="Times New Roman"/>
              </a:rPr>
              <a:t>Simmel</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Simmel l'intuizione che l'uomo è, in tutta la sua essenza e in tutte le sue manifestazioni, determinato dal fatto di vivere in azione reciproca con altri uomini deve condurre a una nuova forma di considerazione in tutte le cosiddette scienze dello spirito</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on è ora più possibile spiegare i fatti storici, nel senso più ampio della parol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ioè i contenuti della cultura, i tipi di economia, le norme della morali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artendo dall'uomo singolo, dal suo intelletto e dai suoi interessi e, dove ciò non riesce, ricorrere subito a cause metafisiche o magiche (Simm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iuttosto noi crediamo ora di comprendere i fenomeni storici in base all'agire reciproco e all'agire in comune degli individui, in base alla somma e alla sublimazione di innumerevoli contributi individuali, in base al concretarsi delle energie sociali in formazioni che stanno e si sviluppano al di là dell'individu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imm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er Georg Simme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nella sua accezione più amp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la società esiste là dove più individui entrano in azione reciproc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Quest'azione reciproca sorge sempre da determinati impuls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o in vista di determinati scop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mpulsi erotici, religiosi o semplicemente socievoli, scopi di difesa e di attacco, di gioco e di acquisizione, di aiuto e di insegnamento, nonché innumerevoli altri, fanno sì che l'uomo entri con altri in una coesistenza, in un agire l'uno per l'altro, con l'altro e contro l'altro, in una correlazione di situazioni, ossia che eserciti effetti sugli altri e ne subisca da altr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immel)</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este azioni reciproche significano che dai portatori individuali di quegli impulsi e scopi sorge un'uni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ioè appunto una "socie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é la fame o l'amore, né il lavoro o la religiosità, né la tecnica o le funzioni e i risultati dell'intelligenza costituiscono ancora  un'associazio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MS Mincho"/>
              </a:rPr>
              <a:t>Le indagini multiscopo dell'ISTAT sulle reti di sostegno, lo studio della famiglia secondo una prospettiva relazionale, le riflessioni sul terzo settore e sulla pluralizzazione del </a:t>
            </a:r>
            <a:r>
              <a:rPr b="0" i="1" lang="he-IL" sz="2800" spc="-1" strike="noStrike">
                <a:solidFill>
                  <a:srgbClr val="ffffff"/>
                </a:solidFill>
                <a:latin typeface="Times New Roman"/>
                <a:ea typeface="MS Mincho"/>
              </a:rPr>
              <a:t>care system</a:t>
            </a:r>
            <a:r>
              <a:rPr b="0" lang="he-IL" sz="2800" spc="-1" strike="noStrike">
                <a:solidFill>
                  <a:srgbClr val="ffffff"/>
                </a:solidFill>
                <a:latin typeface="Times New Roman"/>
                <a:ea typeface="MS Mincho"/>
              </a:rPr>
              <a:t> nei programmi di </a:t>
            </a:r>
            <a:r>
              <a:rPr b="0" i="1" lang="he-IL" sz="2800" spc="-1" strike="noStrike">
                <a:solidFill>
                  <a:srgbClr val="ffffff"/>
                </a:solidFill>
                <a:latin typeface="Times New Roman"/>
                <a:ea typeface="MS Mincho"/>
              </a:rPr>
              <a:t>welfare</a:t>
            </a:r>
            <a:r>
              <a:rPr b="0" lang="he-IL" sz="2800" spc="-1" strike="noStrike">
                <a:solidFill>
                  <a:srgbClr val="ffffff"/>
                </a:solidFill>
                <a:latin typeface="Times New Roman"/>
                <a:ea typeface="MS Mincho"/>
              </a:rPr>
              <a:t>, la messa a punto, nel campo dei servizi alla persona, di nuove metodologie di intervento etichettabili come 'intervento di rete' e la diffusione stessa di una terminologia di tipo reticolare (ampiezza, densità delle reti, reti di sostegno, messa in rete dei servizi, ecc.) possono essere considerati alcuni dei molteplici esempi della maturazione di una prospettiva nuova e diversa di lettura della realtà sociale</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stituiscono un’associazione soltanto quando strutturano la coesistenza isolata degli individui uno accanto all'altro in determinate forme di coesistenza con e per l'altr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 quali rientrano sotto il concetto generale dell'azione reciproc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imme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ssociazione è dunque la forma, realizzantesi in innumerevoli modi diversi, in cui gli individui raggiungono insieme un'unità sulla base di quegli interessi </a:t>
            </a:r>
            <a:endParaRPr b="0" lang="en-US" sz="3200" spc="-1" strike="noStrike">
              <a:solidFill>
                <a:srgbClr val="000000"/>
              </a:solidFill>
              <a:latin typeface="Times New Roman"/>
            </a:endParaRPr>
          </a:p>
          <a:p>
            <a:pPr marL="343080" indent="-343080" algn="ct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ensibili o ideali, momentanei o durevoli, coscienti o inconsci, che spingono in modo causale o che attirano teleologicamente –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nell'ambito della quale questi interessi si realizzan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Simmel)</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ogni fenomeno sociale esis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 contenu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a relazione economica, una relazione familiare, una relazione di lavoro, ecc.)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d una forma che costituiscono una realtà unitar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e delle motivazioni si occupa la psicologia, se dei contenuti si occupano scienze specifiche (economia, diritto, ecc.)</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oggetto della sociologia sono le form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i qui l'aggettivo di 'formale' riferito alla sociologia di Simm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ome sottolinea Simme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per esplicitare il suo pensier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in tutti i gruppi umani, anche i più diversi, è possibile rinveni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medesimi modi form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i atteggiamento reciproco tra gli uomin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ovra-ordinazione e subordinazione, concorrenza, imitazione, divisione del lavoro, formazione di partiti, rappresentanza, contemporaneità del raggruppamento all'interno e della chiusura verso l'esterno, nonché innumerevoli aspetti simili, si ritrovano in una società statale e in una comunità religiosa, in una banda di congiurati e in una consociazione economica, in una scuola artistica e in una famiglia (Simm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er quanto diversi possano essere gli interessi che portano alle diverse associazion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 forme in cui esse si attuano possono essere le medesim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osì come lo stesso interesse può configurarsi in associazioni di forma molto different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Fonte di legittimazione della sociologia, come disciplina autonoma</a:t>
            </a:r>
            <a:r>
              <a:rPr b="0" lang="it-IT" sz="3200" spc="-1" strike="noStrike">
                <a:solidFill>
                  <a:srgbClr val="ffffff"/>
                </a:solidFill>
                <a:latin typeface="Times New Roman"/>
                <a:ea typeface="Times New Roman"/>
              </a:rPr>
              <a:t> dalla psicologia e dalle altre discipline uma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è "La constatazione, l'ordinamento sistematico, la motivazione psicologica e lo sviluppo storico delle forme pure di associazione" (Simmel)</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ea typeface="Times New Roman"/>
              </a:rPr>
              <a:t>A</a:t>
            </a:r>
            <a:r>
              <a:rPr b="0" lang="he-IL" sz="3600" spc="-1" strike="noStrike">
                <a:solidFill>
                  <a:srgbClr val="ffffff"/>
                </a:solidFill>
                <a:latin typeface="Times New Roman"/>
                <a:ea typeface="Times New Roman"/>
              </a:rPr>
              <a:t>lcune esemplificazioni </a:t>
            </a:r>
            <a:r>
              <a:rPr b="0" lang="it-IT" sz="3600" spc="-1" strike="noStrike">
                <a:solidFill>
                  <a:srgbClr val="ffffff"/>
                </a:solidFill>
                <a:latin typeface="Times New Roman"/>
                <a:ea typeface="Times New Roman"/>
              </a:rPr>
              <a:t>dei </a:t>
            </a:r>
            <a:r>
              <a:rPr b="0" lang="he-IL" sz="3600" spc="-1" strike="noStrike">
                <a:solidFill>
                  <a:srgbClr val="ffffff"/>
                </a:solidFill>
                <a:latin typeface="Times New Roman"/>
                <a:ea typeface="Times New Roman"/>
              </a:rPr>
              <a:t>campi di riflessione 'tipici' della sociologia</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perché </a:t>
            </a:r>
            <a:r>
              <a:rPr b="0" lang="he-IL" sz="2800" spc="-1" strike="noStrike">
                <a:solidFill>
                  <a:srgbClr val="ffffff"/>
                </a:solidFill>
                <a:latin typeface="Times New Roman"/>
                <a:ea typeface="Times New Roman"/>
              </a:rPr>
              <a:t>un interesse economico </a:t>
            </a:r>
            <a:r>
              <a:rPr b="0" lang="it-IT" sz="2800" spc="-1" strike="noStrike">
                <a:solidFill>
                  <a:srgbClr val="ffffff"/>
                </a:solidFill>
                <a:latin typeface="Times New Roman"/>
                <a:ea typeface="Times New Roman"/>
              </a:rPr>
              <a:t>si </a:t>
            </a:r>
            <a:r>
              <a:rPr b="0" lang="he-IL" sz="2800" spc="-1" strike="noStrike">
                <a:solidFill>
                  <a:srgbClr val="ffffff"/>
                </a:solidFill>
                <a:latin typeface="Times New Roman"/>
                <a:ea typeface="Times New Roman"/>
              </a:rPr>
              <a:t>realizza sia mediante la concorrenza, che attraverso l'organizzazione pianificata dei produttori; </a:t>
            </a:r>
            <a:endParaRPr b="0" lang="en-US" sz="2800" spc="-1" strike="noStrike">
              <a:solidFill>
                <a:srgbClr val="000000"/>
              </a:solidFill>
              <a:latin typeface="Times New Roman"/>
            </a:endParaRPr>
          </a:p>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perché </a:t>
            </a:r>
            <a:r>
              <a:rPr b="0" lang="he-IL" sz="2800" spc="-1" strike="noStrike">
                <a:solidFill>
                  <a:srgbClr val="ffffff"/>
                </a:solidFill>
                <a:latin typeface="Times New Roman"/>
                <a:ea typeface="Times New Roman"/>
              </a:rPr>
              <a:t> gli interessi che stanno alla base delle relazioni tra i sessi sono soddisfatti nella molteplicità quasi sconfinata delle forme familiari; </a:t>
            </a:r>
            <a:r>
              <a:rPr b="0" lang="it-IT" sz="2800" spc="-1" strike="noStrike">
                <a:solidFill>
                  <a:srgbClr val="ffffff"/>
                </a:solidFill>
                <a:latin typeface="Times New Roman"/>
                <a:ea typeface="Times New Roman"/>
              </a:rPr>
              <a:t>- perché</a:t>
            </a:r>
            <a:r>
              <a:rPr b="0" lang="he-IL" sz="2800" spc="-1" strike="noStrike">
                <a:solidFill>
                  <a:srgbClr val="ffffff"/>
                </a:solidFill>
                <a:latin typeface="Times New Roman"/>
                <a:ea typeface="Times New Roman"/>
              </a:rPr>
              <a:t>, infine,  i contenuti della vita religiosa possano dare origine a forme di comunità ora libere ora centralistiche</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ompito della sociologia è comprendere e spiegare gli elementi 'ricorrenti' in associazioni le più disparate possibi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al punto di vista dei contenu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ovvero i processi attraverso i quali impulsi, motivazioni differenziati si canalizzano verso associazioni simili dal punto di vista della forma</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Contemporaneament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 </a:t>
            </a:r>
            <a:r>
              <a:rPr b="0" lang="he-IL" sz="3200" spc="-1" strike="noStrike">
                <a:solidFill>
                  <a:srgbClr val="ffffff"/>
                </a:solidFill>
                <a:latin typeface="Times New Roman"/>
                <a:ea typeface="MS Mincho"/>
              </a:rPr>
              <a:t>si è assistito alla diffusione di una specifica letteratura sulla </a:t>
            </a:r>
            <a:r>
              <a:rPr b="0" i="1" lang="he-IL" sz="3200" spc="-1" strike="noStrike">
                <a:solidFill>
                  <a:srgbClr val="ffffff"/>
                </a:solidFill>
                <a:latin typeface="Times New Roman"/>
                <a:ea typeface="MS Mincho"/>
              </a:rPr>
              <a:t>network analysi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 </a:t>
            </a:r>
            <a:r>
              <a:rPr b="0" lang="he-IL" sz="3200" spc="-1" strike="noStrike">
                <a:solidFill>
                  <a:srgbClr val="ffffff"/>
                </a:solidFill>
                <a:latin typeface="Times New Roman"/>
                <a:ea typeface="MS Mincho"/>
              </a:rPr>
              <a:t>alla quale sono stati dedicati volumi introduttivi, numeri unici di riviste, convegn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a queste brevi citazioni di Simmel appare tutta la fondatezza del giudizio di Von Wiese che definì una pessima invenzione l'aggettivo 'formale' usato da Simmel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e ed in quanto ha contribuito a caratterizzare la sua sociologia come pura astrazione, senza alcun aggancio con le formazioni storico-social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ovvero come procedimento logico di applicazioni di categorie universali e </a:t>
            </a:r>
            <a:r>
              <a:rPr b="0" i="1" lang="it-IT" sz="2800" spc="-1" strike="noStrike">
                <a:solidFill>
                  <a:srgbClr val="ffffff"/>
                </a:solidFill>
                <a:latin typeface="Times New Roman"/>
                <a:ea typeface="Times New Roman"/>
              </a:rPr>
              <a:t>a priori</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entrale nella sociologia di Simmel è il concetto di 'azione reciproca' (</a:t>
            </a:r>
            <a:r>
              <a:rPr b="0" i="1" lang="he-IL" sz="3200" spc="-1" strike="noStrike">
                <a:solidFill>
                  <a:srgbClr val="ffffff"/>
                </a:solidFill>
                <a:latin typeface="Times New Roman"/>
                <a:ea typeface="Times New Roman"/>
              </a:rPr>
              <a:t>Wechselwirkung</a:t>
            </a:r>
            <a:r>
              <a:rPr b="0" lang="he-IL" sz="3200" spc="-1" strike="noStrike">
                <a:solidFill>
                  <a:srgbClr val="ffffff"/>
                </a:solidFill>
                <a:latin typeface="Times New Roman"/>
                <a:ea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una sorta di principio regolativo del mondo, in virtù del quale tutto è in un rapporto di azione reciproca con tut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tra ogni punto del mondo vi è un campo di forze e di relazioni reciproch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l termine sta quindi ad indicare una concezione della real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ome rete di relazioni di influenza reciproca tra una pluralità di element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pplicato alla sociologia, il concetto di azione reciproca si declina come </a:t>
            </a:r>
            <a:r>
              <a:rPr b="0" i="1" lang="he-IL" sz="3200" spc="-1" strike="noStrike">
                <a:solidFill>
                  <a:srgbClr val="ffffff"/>
                </a:solidFill>
                <a:latin typeface="Times New Roman"/>
                <a:ea typeface="Times New Roman"/>
              </a:rPr>
              <a:t>Vergesellschaftung</a:t>
            </a:r>
            <a:r>
              <a:rPr b="0" lang="he-IL" sz="3200" spc="-1" strike="noStrike">
                <a:solidFill>
                  <a:srgbClr val="ffffff"/>
                </a:solidFill>
                <a:latin typeface="Times New Roman"/>
                <a:ea typeface="Times New Roman"/>
              </a:rPr>
              <a:t> (termine anch'esso intraducibile) che indica il processo mediante il quale si instaurano e si mantengono le relazioni di azione reciproca tra elementi sociali (individui, gruppi, ma anche intere socie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ntroduzione di A. Cavalli a Simm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n riferimento alla real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la società per Simmel sorge solo quando le relazioni reciproch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suscitate da interessi e motivi particolar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diventano operan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La società per Simmel non è una realtà storica autonoma che rende possibile l'azione reciproca, né è la somma delle azioni reciproche, me è azione reciproca attualizzata che origina associazioni, gruppi, formazioni diversamente caratterizzate (in base alle motivazioni ai bisogni ovvero agli interessi degli individui) di cui la sociologia può cogliere solo le forme: la società è quindi o l'astratto concetto generale che designa queste forme, il genere di cui esse sono delle specie, oppure la loro somma di volta in volta operante (Simmel)</a:t>
            </a:r>
            <a:r>
              <a:rPr b="0" lang="it-IT"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e varie forme di azione reciproca sono sottoposte a dei principi strutturali dei qu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nonostante la mancanza di sistematicità rilevabile nel pensiero simmellian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è possibile cogliere i più rilevan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incipi struttural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la dualità: ogni forma nasce dall'incontro di tendenze contrarie, opposte: equilibrio / rottura dell'equilibrio; stabilizzazione / destabilizzazione; integrazione / conflitto; costrizione / libertà; dominio / subordinazio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spazio: dimensione spaziale delle forme sociali: avvicinamento/allontanamento; interno/esterno; vuoto/pien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numero: nell'analisi delle forme di associazione rilevante è il numero dei loro elementi che risulta direttamente proporzionale al grado di astrazione e spersonalizzazione delle relazioni sociali; così come è importante il numero delle associazioni, 'misuratore' del livello di civiltà (cultura) di una intera socie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interrogativo dal quale possiamo partire per aprire e introdurre una riflessione sulle matrici teoriche del paradigma di rete può essere sintetizzato in questi termin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tempo: processi di accelerazione / rallentamento dei ritmi di trasformazione delle forme soci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 capitolo sulle </a:t>
            </a:r>
            <a:r>
              <a:rPr b="0" i="1" lang="he-IL" sz="3200" spc="-1" strike="noStrike">
                <a:solidFill>
                  <a:srgbClr val="ffffff"/>
                </a:solidFill>
                <a:latin typeface="Times New Roman"/>
                <a:ea typeface="Times New Roman"/>
              </a:rPr>
              <a:t>Intersecazioni delle cerchie sociali</a:t>
            </a:r>
            <a:r>
              <a:rPr b="0" lang="he-IL" sz="3200" spc="-1" strike="noStrike">
                <a:solidFill>
                  <a:srgbClr val="ffffff"/>
                </a:solidFill>
                <a:latin typeface="Times New Roman"/>
                <a:ea typeface="Times New Roman"/>
              </a:rPr>
              <a:t>, Simmel usa l'espressio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erchia soc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indicare unità, associazione, raggruppamen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ogni cerchia sociale è definita dalle azioni reciproche messe in atto dai soggetti sulla base di spinte, motivazioni e/o interessi di tipo individu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quindi ogni cerchia sociale rappresenta una sfera di relazioni differenziate sulla base di specifici contenuti, che sono dati dalle spinte e dalle motivazioni individu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ogni cerchia sociale ha un contenuto ed una form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ata dai principi strutturali che presiedono ad ogni azione reciproca, ad ogni associazion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tendenza a cogliere criticamente il processo di reificazione delle forme sociali, è presente in tutto il pensiero di Simmel. "Non a caso la riflessione sul denaro e sullo scambio occupa in Simmel una posizione di così grande rilievo, denaro e scambio appaiono forme pure e oggettive che conducono un'esistenza propria al di là delle intenzioni degli attori sociali e delle loro attribuzioni di sens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ntroduzione di A.Cavalli a Simmel)</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tendenza delle forme culturali (delle istituzioni) a preservarsi e conservarsi contro la vita e gli uomini che le hanno prodotte costituisce, per l'ultimo Simmel, la «tragedia della cultura» e il rifiuto dell'uomo moderno di sottomettersi alle forme e alle istituzion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 qui la conflittualità permanente che è alla base dei processi di associazione)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rta ad una  «tragedia social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he altro non è che una conseguenza della prima</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a sociologia relazionale di </a:t>
            </a:r>
            <a:br>
              <a:rPr sz="4400"/>
            </a:br>
            <a:r>
              <a:rPr b="0" lang="it-IT" sz="4400" spc="-1" strike="noStrike">
                <a:solidFill>
                  <a:srgbClr val="ffffff"/>
                </a:solidFill>
                <a:latin typeface="Times New Roman"/>
                <a:ea typeface="Times New Roman"/>
              </a:rPr>
              <a:t>L. </a:t>
            </a:r>
            <a:r>
              <a:rPr b="0" lang="he-IL" sz="4400" spc="-1" strike="noStrike">
                <a:solidFill>
                  <a:srgbClr val="ffffff"/>
                </a:solidFill>
                <a:latin typeface="Times New Roman"/>
                <a:ea typeface="Times New Roman"/>
              </a:rPr>
              <a:t>Von Wiese</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a:t>
            </a:r>
            <a:r>
              <a:rPr b="0" lang="he-IL" sz="2800" spc="-1" strike="noStrike">
                <a:solidFill>
                  <a:srgbClr val="ffffff"/>
                </a:solidFill>
                <a:latin typeface="Times New Roman"/>
                <a:ea typeface="Times New Roman"/>
              </a:rPr>
              <a:t>a riflessione di Leopold Von Wiese può essere considerata un passo avanti - in termini di maggiore sistematicità - rispetto alle posizioni di Simmel</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Von Wiese definisce ed etichetta la sua sociologia come 'dottrina relazionale' o dell'interumano, evitando l'aggettivo formale o formalista, usato da Simmel, che giudica infelice, come trovata, e fuorviante (Von Wie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Von Wies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il dilemma 'individuo-società' non si risolve - affrontando i problemi dell'interumano - cadendo nelle reti della psicologi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Secondo il pericoloso ed allettante esempio di Tarde, intendendo per società la somma delle influenze psichiche di uomini singoli su uomini singoli" (Von Wi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Von Wiese sottolinea la centralità di un nuovo elemento introdotto da F.Toennies (1987):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l volontarism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che porta Toennies a dedurre la cosiddetta vita sociale dal consenso reciproc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Ma è una novità che, pur gettando i presupposti di una nuova tendenza tesa a fare della volontà umana il concetto centrale e non più concepito in termini naturalistici di una nuova sociologia, non è stata - a giudizio di Von Wiese - fertile, se ed in quanto i pensieri di Toennies sono stati interpretati in maniera puramente etica, più di quanto l'autore si fosse aspettato</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Von Wiese riconosce alla sociologia america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nata sotto l'influsso e l'impulso H. Spence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un contributo, solitamente sottovalutato, alla costruzione della sociologi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come disciplina autono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l'analisi strutturale costituisce, rappresenta un nuovo paradigma, un nuovo approccio conoscitivo nell'ambito delle scienze sociali, ed in particolare nell'ambito della sociologia, ovvero è solo un insieme di nuove teorie, verificate empiricamente con strumenti specificatamente tarati per lo studio delle re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l concetto di 'processo sociale' introdotto da Albion Small (</a:t>
            </a:r>
            <a:r>
              <a:rPr b="0" i="1" lang="it-IT" sz="3200" spc="-1" strike="noStrike">
                <a:solidFill>
                  <a:srgbClr val="ffffff"/>
                </a:solidFill>
                <a:latin typeface="Times New Roman"/>
                <a:ea typeface="Times New Roman"/>
              </a:rPr>
              <a:t>General Sociology</a:t>
            </a:r>
            <a:r>
              <a:rPr b="0" lang="it-IT" sz="3200" spc="-1" strike="noStrike">
                <a:solidFill>
                  <a:srgbClr val="ffffff"/>
                </a:solidFill>
                <a:latin typeface="Times New Roman"/>
                <a:ea typeface="Times New Roman"/>
              </a:rPr>
              <a:t>, 1905),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ccento posto da Eduard Alsworth Ross (</a:t>
            </a:r>
            <a:r>
              <a:rPr b="0" i="1" lang="it-IT" sz="3200" spc="-1" strike="noStrike">
                <a:solidFill>
                  <a:srgbClr val="ffffff"/>
                </a:solidFill>
                <a:latin typeface="Times New Roman"/>
                <a:ea typeface="Times New Roman"/>
              </a:rPr>
              <a:t>Social Control</a:t>
            </a:r>
            <a:r>
              <a:rPr b="0" lang="it-IT" sz="3200" spc="-1" strike="noStrike">
                <a:solidFill>
                  <a:srgbClr val="ffffff"/>
                </a:solidFill>
                <a:latin typeface="Times New Roman"/>
                <a:ea typeface="Times New Roman"/>
              </a:rPr>
              <a:t>, 1901) sul fatto che l'elemento costitutivo della società non è l'uomo singolo, ma il processo soc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gli sforzi di Charles H. Cooley (</a:t>
            </a:r>
            <a:r>
              <a:rPr b="0" i="1" lang="it-IT" sz="3200" spc="-1" strike="noStrike">
                <a:solidFill>
                  <a:srgbClr val="ffffff"/>
                </a:solidFill>
                <a:latin typeface="Times New Roman"/>
                <a:ea typeface="Times New Roman"/>
              </a:rPr>
              <a:t>Human Nature and the Social Order</a:t>
            </a:r>
            <a:r>
              <a:rPr b="0" lang="it-IT" sz="3200" spc="-1" strike="noStrike">
                <a:solidFill>
                  <a:srgbClr val="ffffff"/>
                </a:solidFill>
                <a:latin typeface="Times New Roman"/>
                <a:ea typeface="Times New Roman"/>
              </a:rPr>
              <a:t>, 1902) di considerare costantemente l'uomo in connessione con la società e la società in constante comunione con la person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Tali teorie e processi </a:t>
            </a:r>
            <a:r>
              <a:rPr b="0" lang="he-IL" sz="2800" spc="-1" strike="noStrike">
                <a:solidFill>
                  <a:srgbClr val="ffffff"/>
                </a:solidFill>
                <a:latin typeface="Times New Roman"/>
                <a:ea typeface="Times New Roman"/>
              </a:rPr>
              <a:t>costituiscono - per Von Wiese - i presupposti per una definizione della sociologia come disciplina dell'interumano,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e della individuazione dell'oggetto della sociologia né nel sistema sociale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né nell'individu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 </a:t>
            </a:r>
            <a:r>
              <a:rPr b="0" lang="he-IL" sz="2800" spc="-1" strike="noStrike">
                <a:solidFill>
                  <a:srgbClr val="ffffff"/>
                </a:solidFill>
                <a:latin typeface="Times New Roman"/>
                <a:ea typeface="Times New Roman"/>
              </a:rPr>
              <a:t>bensì nei sistemi di interdipendenza, nei processi che legano individuo-società in maniera ricorsiva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per cui non si può dare l'uno senza l'altra e viceversa</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Rispetto alle due polarità individuo-società e alla irriducibilità di categorie di analisi che studiano il sociale come fatto che esiste prima e sopra l'individuo, a quelle che considerano il sociale come proiezione di spinte, motivazioni, interessi, volontà individuali, come grande narrazione, Von Wiese contrappone il concetto di processo sociale e di sociologia relazion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a vita sociale degli uomini è una catena ininterrotta di avvenimenti, in cui gli uomini si collegano più strettamente l'uno con l'altro o si distinguono l'uno dall'altr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Gli atti di congiunzione e di disgiunzione, gli avvicinamenti e gli allontanamenti sono processi, a cui si riconduce tutta l'esistenza interumana</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 forze ultime, che i singoli uomini possiedono, sono personali, cioè fisiche, psichiche, spiritual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a queste forze sono feconde e diventano azioni mediante i collegamenti dell'uomo con l'uomo, che permangono operanti nello spazio e nel temp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Von Wiese colloca la sua dottrina relazionale in una posizione neutrale rispetto alla contrapposizione - da lui considerata artificiosa </a:t>
            </a:r>
            <a:endParaRPr b="0" lang="en-US" sz="2800" spc="-1" strike="noStrike">
              <a:solidFill>
                <a:srgbClr val="000000"/>
              </a:solidFill>
              <a:latin typeface="Times New Roman"/>
            </a:endParaRPr>
          </a:p>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tra individualisti e collettivisti</a:t>
            </a:r>
            <a:r>
              <a:rPr b="0" lang="it-IT" sz="2800" spc="-1" strike="noStrike">
                <a:solidFill>
                  <a:srgbClr val="ffffff"/>
                </a:solidFill>
                <a:latin typeface="Times New Roman"/>
                <a:ea typeface="Times New Roman"/>
              </a:rPr>
              <a: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 </a:t>
            </a:r>
            <a:r>
              <a:rPr b="0" lang="he-IL" sz="2800" spc="-1" strike="noStrike">
                <a:solidFill>
                  <a:srgbClr val="ffffff"/>
                </a:solidFill>
                <a:latin typeface="Times New Roman"/>
                <a:ea typeface="Times New Roman"/>
              </a:rPr>
              <a:t>perché il sociale non è l'individuo o la società, ma soltanto processi e concatenazioni di avvenimenti in cui sono sì implicati gli uomini, ma i loro interessi, motivazioni, desideri, aspirazioni non sono più decisivi della situazione esterna e delle influenze delle formazioni social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Von Wie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interumano altro non sarebbe che un gioco infinitamente variabile di distanziamenti e gli eventi, che nella loro totalità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formano la stori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distanziamenti ed eventi che non interessano per il loro contenuto, per così dire 'lordo' (comprendente uomini, cose, scopi, idee, ecc.)</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ma interessano per la connessione uomo-uomo che essi rivelano (Von Wi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la individuazione degli elementi fondamentali della sociologia, Von Wiese considera una sfera di vita interrelata come una rete apparentemente impenetrabile di linee, che partono da un punto che sono gli uomini: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il problema è ordinare questo reticolo e spiegare come soltanto questi collegamenti rendono possibile la vita civi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nel senso più ampio della paro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traverso i reticoli dei rapporti sociali gli uomini sono ininterrottamente avvicinati gli uni agli altri o allontanati gli uni dagli altr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l raggruppamen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ottenuto di volta in volta in tal mod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nde possibile innanzitutto l'adempimento di un compito adeguato, oggettivo</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Per rispondere all'interrogativ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procederemo in maniera indut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MS Mincho"/>
              </a:rPr>
              <a:t>con l'obiettivo di sondare più da vicino il </a:t>
            </a:r>
            <a:r>
              <a:rPr b="0" i="1" lang="he-IL" sz="3200" spc="-1" strike="noStrike">
                <a:solidFill>
                  <a:srgbClr val="ffffff"/>
                </a:solidFill>
                <a:latin typeface="Times New Roman"/>
                <a:ea typeface="MS Mincho"/>
              </a:rPr>
              <a:t>backgroud</a:t>
            </a:r>
            <a:r>
              <a:rPr b="0" lang="he-IL" sz="3200" spc="-1" strike="noStrike">
                <a:solidFill>
                  <a:srgbClr val="ffffff"/>
                </a:solidFill>
                <a:latin typeface="Times New Roman"/>
                <a:ea typeface="MS Mincho"/>
              </a:rPr>
              <a:t> teorico sotteso all'analisi strutturale</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E' proprio dell'adempimento di uno specifico scopo esistenz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appartenere a una opportuna ripartizione degli uomini e a una congruente possibilità di scarica delle for</a:t>
            </a:r>
            <a:r>
              <a:rPr b="0" lang="it-IT" sz="3200" spc="-1" strike="noStrike">
                <a:solidFill>
                  <a:srgbClr val="ffffff"/>
                </a:solidFill>
                <a:latin typeface="Times New Roman"/>
                <a:ea typeface="Times New Roman"/>
              </a:rPr>
              <a:t>z</a:t>
            </a:r>
            <a:r>
              <a:rPr b="0" lang="he-IL" sz="3200" spc="-1" strike="noStrike">
                <a:solidFill>
                  <a:srgbClr val="ffffff"/>
                </a:solidFill>
                <a:latin typeface="Times New Roman"/>
                <a:ea typeface="Times New Roman"/>
              </a:rPr>
              <a:t>e uma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he non è data in nessun'altra ripartizione degli uomin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L'interumano altro non è che una grande quantità di legami mutui e variabili fra gli uomin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gli avvenimenti che accadono in questa sfera sono processi sociali, attraverso i quali gli uomini sono più strettamente uniti o più disgiunti</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relazione soci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 uno stato labile, cagionato da un processo sociale o (più spesso) da più processi sociali, in cui gli uomini sono reciprocamente collegati o separ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er dirla molto in breve (e perciò facilmente equivocabile), una relazione sociale è una determinata distanza fra ess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Von Wies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e categorie principali del sistema</a:t>
            </a:r>
            <a:r>
              <a:rPr b="0" lang="it-IT" sz="4400" spc="-1" strike="noStrike">
                <a:solidFill>
                  <a:srgbClr val="ffffff"/>
                </a:solidFill>
                <a:latin typeface="Times New Roman"/>
                <a:ea typeface="Times New Roman"/>
              </a:rPr>
              <a:t> per L. Von Wiese</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1) processo sociale: è l'accadere globale nello spazio sociale che si suddivide in una quantità infinitamente grande di processi sociali, che sono tutti processi di distacco e di congiungimento. Il processo sociale è sintetizzabile nella formula: P=CxS, laddove C è il comportamento individuale e S la situazione, il contesto. La relazione sociale è il risultato di uno o più processi;</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 distanza: ogni processo sociale è uno spostamento di distanze fra gli uomini (distanza intesa come avvicinamento e allontanamen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3) spazio sociale: l'universo nel quale si svolgono i processi. Von Wiese si trova in gravi difficoltà nella definizione di spazio sociale: i processi di associatività e dissociatività si verificano nello spazio, ma non avvengono nello spazio fisic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 l</a:t>
            </a:r>
            <a:r>
              <a:rPr b="0" lang="he-IL" sz="2800" spc="-1" strike="noStrike">
                <a:solidFill>
                  <a:srgbClr val="ffffff"/>
                </a:solidFill>
                <a:latin typeface="Times New Roman"/>
                <a:ea typeface="Times New Roman"/>
              </a:rPr>
              <a:t>e formazioni consistono in ripetizioni di processi che si svolgono in modo affine: sono distanziamenti, che hanno uno sviluppo analogo in tutto quanto vi è di essenziale e portano a relazioni molto simil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Times New Roman"/>
              </a:rPr>
              <a:t>Lo spirito umano coglie l'accadere complesso tramite semplificazioni e oggettivazioni e concepisce la molteplicità dei processi che si ripetono frequentemente come totalità sostanziali, ma che in realtà non hanno alcuna sostanza</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e formazioni sociali costituiscono uno stato (relativamente) permanente, rappresentato come un'entità formata, di determinati distanziamenti fra gli uomini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Esse, nella loro qualità di Chiese, Stati, economia, classe, ceto, formazioni dell'arte e della scienza, possono essere anche qualche altra cosa oltre ciò, vale a dire conquiste dello spirito che opera secondo fini</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ma nella sociologia interessano come "condensamenti" dei processi dell'associatività e della dissociatività" (Von Wies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ncio un piccolo sasso nell'acqua e cominciano ad apparire sulla superficie numerosi cerchi concentrici dilatantis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Questo può essere il simbolo del nostro modo di veder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poiché analogamen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uomo è il punto centrale del complesso intricatissimo dei processi social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si si ripetono nel loro contenuto e nel loro co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d i singoli segmenti della linea circolar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he dividiamo concettualmente in famiglia, Stato, popolo, Chiesa, ecc., sono presenti anche nel cerchio più strett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si contengono e formano alcuni settori della vita personal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MS Mincho"/>
              </a:rPr>
              <a:t>La riflessione che svilupperemo, consentirà di mettere in evidenza come l'analisi strutturale più che rappresentare un nuovo paradigma conoscitivo, può essere considerata un insieme di teorie formulate per spiegare i meccanismi di funzionamento della realtà (fenomeni, processi, parti o segmenti), teorie che, tuttavia, si iscrivono in un paradigma di rete, in un paradigma relazionale che ingloba e ricomprende al suo interno l'analisi strutturale, senza identificarsi totalmente ed esclusivamente con essa</a:t>
            </a:r>
            <a:r>
              <a:rPr b="0" lang="it-IT"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Per Von Wiese la relazione sociale è la manifestazione instabile e mutevole nel tempo di processi sociali di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vvicinamento e di distanziament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tra individui e gruppi</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che avvengono in uno spazio soci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ll'uno o all'altro dei due processi si possono ricondurre tutte le forme di relazione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o spazio sociale può quindi essere concepito come una rete di relazion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risultato di processi di avvicinamento e distanziamen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cui misurabili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data come prerequisito centrale da Von Wiese ai fini dell'applicabilità del concetto di mutamento, variazione delle distanz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è rimasta, tuttavia, nell'ombr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ono centrali in Von Wiese alcuni concetti che sono alla base della </a:t>
            </a:r>
            <a:r>
              <a:rPr b="0" i="1" lang="it-IT" sz="3200" spc="-1" strike="noStrike">
                <a:solidFill>
                  <a:srgbClr val="ffffff"/>
                </a:solidFill>
                <a:latin typeface="Times New Roman"/>
                <a:ea typeface="Times New Roman"/>
              </a:rPr>
              <a:t>network analysis</a:t>
            </a:r>
            <a:r>
              <a:rPr b="0" lang="it-IT" sz="3200" spc="-1" strike="noStrike">
                <a:solidFill>
                  <a:srgbClr val="ffffff"/>
                </a:solidFill>
                <a:latin typeface="Times New Roman"/>
                <a:ea typeface="Times New Roman"/>
              </a:rPr>
              <a:t>, e che costituiscono gli elementi più innovativ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i concetti di spazio sociale, di struttura, intesa come stato relativamente stabile di distanziamenti, di distanz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Sono concetti, la cui traducibilità operativa rappresenta un problema non secondari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né risolto dalla </a:t>
            </a:r>
            <a:r>
              <a:rPr b="0" i="1" lang="it-IT" sz="3200" spc="-1" strike="noStrike">
                <a:solidFill>
                  <a:srgbClr val="ffffff"/>
                </a:solidFill>
                <a:latin typeface="Times New Roman"/>
                <a:ea typeface="Times New Roman"/>
              </a:rPr>
              <a:t>network analysis</a:t>
            </a:r>
            <a:r>
              <a:rPr b="0" lang="it-IT"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ma che costituiscono gli elementi caratterizzanti di un approccio conoscitivo che vuole andare al di là di schemi più tradizionali di analisi della real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Times New Roman"/>
                <a:ea typeface="Times New Roman"/>
              </a:rPr>
              <a:t>La teoria relazionale di P. Donati</a:t>
            </a:r>
            <a:r>
              <a:rPr b="0" lang="it-IT"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Per la teoria relazionale (P.Don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la relazione è una categoria primitiva dell'essere e del pensier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che come tale non è spiegabile e non può essere definit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Times New Roman"/>
              </a:rPr>
              <a:t> </a:t>
            </a:r>
            <a:r>
              <a:rPr b="0" lang="he-IL" sz="3200" spc="-1" strike="noStrike">
                <a:solidFill>
                  <a:srgbClr val="ffffff"/>
                </a:solidFill>
                <a:latin typeface="Times New Roman"/>
                <a:ea typeface="Times New Roman"/>
              </a:rPr>
              <a:t>ma può essere esperita, osservata, descritta entro certi limiti e semantizzata</a:t>
            </a:r>
            <a:r>
              <a:rPr b="0" lang="it-IT"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sua importanza sta nell'essere sempre presente come fatto costitutivo sia della realtà che della conoscenz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onati)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relazione sociale, intesa in senso astratto come "riferimento 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ibertà condizionale simbolic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e come "legane tr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dipendenza reciproca)</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entra sempre, come </a:t>
            </a:r>
            <a:r>
              <a:rPr b="0" i="1" lang="it-IT" sz="3200" spc="-1" strike="noStrike">
                <a:solidFill>
                  <a:srgbClr val="ffffff"/>
                </a:solidFill>
                <a:latin typeface="Times New Roman"/>
                <a:ea typeface="Times New Roman"/>
              </a:rPr>
              <a:t>refero</a:t>
            </a:r>
            <a:r>
              <a:rPr b="0" lang="it-IT" sz="3200" spc="-1" strike="noStrike">
                <a:solidFill>
                  <a:srgbClr val="ffffff"/>
                </a:solidFill>
                <a:latin typeface="Times New Roman"/>
                <a:ea typeface="Times New Roman"/>
              </a:rPr>
              <a:t> e come </a:t>
            </a:r>
            <a:r>
              <a:rPr b="0" i="1" lang="it-IT" sz="3200" spc="-1" strike="noStrike">
                <a:solidFill>
                  <a:srgbClr val="ffffff"/>
                </a:solidFill>
                <a:latin typeface="Times New Roman"/>
                <a:ea typeface="Times New Roman"/>
              </a:rPr>
              <a:t>religo</a:t>
            </a:r>
            <a:r>
              <a:rPr b="0" lang="it-IT" sz="3200" spc="-1" strike="noStrike">
                <a:solidFill>
                  <a:srgbClr val="ffffff"/>
                </a:solidFill>
                <a:latin typeface="Times New Roman"/>
                <a:ea typeface="Times New Roman"/>
              </a:rPr>
              <a:t>, nel fenomeno sociale: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anzi entrambi questi aspetti della relazione entrano nella stessa costituzione, simbolica e strutturale del fenomeno social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La relazione sociale (Don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è reale, in quanto è propriamente umana: presuppone degli agenti-persone;</a:t>
            </a:r>
            <a:endParaRPr b="0" lang="en-US" sz="3200" spc="-1" strike="noStrike">
              <a:solidFill>
                <a:srgbClr val="000000"/>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è sempre bilaterale in quanto la sua intima natura sociale, soggettiva e strutturale è data dal fatto che il sociale non consiste nell'essere collettivo, quanto nello 'stare tra' termini capaci di agire simbolico (mentre l'azione può essere unilaterale); </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può essere in atto o potenziale, mentre l'azione è per definizione attività;</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può essere concreta-storica (osservabile, esperibile </a:t>
            </a:r>
            <a:r>
              <a:rPr b="0" i="1" lang="en-US" sz="3200" spc="-1" strike="noStrike">
                <a:solidFill>
                  <a:srgbClr val="ffffff"/>
                </a:solidFill>
                <a:latin typeface="Times New Roman"/>
                <a:ea typeface="Times New Roman"/>
              </a:rPr>
              <a:t>in re</a:t>
            </a:r>
            <a:r>
              <a:rPr b="0" lang="en-US" sz="3200" spc="-1" strike="noStrike">
                <a:solidFill>
                  <a:srgbClr val="ffffff"/>
                </a:solidFill>
                <a:latin typeface="Times New Roman"/>
                <a:ea typeface="Times New Roman"/>
              </a:rPr>
              <a:t>), ovvero pensata come possibile dall'osservator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può essere impersonale (relativa quindi al sistema sociale e alle sue tipizzazioni e strutturazioni consolidate) o personale (intersoggettiva, primaria);</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benché normalmente la relazione avvenga nel </a:t>
            </a:r>
            <a:r>
              <a:rPr b="0" i="1" lang="it-IT" sz="2800" spc="-1" strike="noStrike">
                <a:solidFill>
                  <a:srgbClr val="ffffff"/>
                </a:solidFill>
                <a:latin typeface="Times New Roman"/>
                <a:ea typeface="Times New Roman"/>
              </a:rPr>
              <a:t>medium</a:t>
            </a:r>
            <a:r>
              <a:rPr b="0" lang="it-IT" sz="2800" spc="-1" strike="noStrike">
                <a:solidFill>
                  <a:srgbClr val="ffffff"/>
                </a:solidFill>
                <a:latin typeface="Times New Roman"/>
                <a:ea typeface="Times New Roman"/>
              </a:rPr>
              <a:t> della comunicazione (linguaggio), non si può ricondurre e ridurre alle categorie linguistich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ha un carattere sovrafunzionale, in quanto non è mai riducibile alle funzioni che essa sembra esplicar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5:15:41Z</dcterms:created>
  <dc:creator>aabb</dc:creator>
  <dc:description/>
  <dc:language>en-US</dc:language>
  <cp:lastModifiedBy>aabb</cp:lastModifiedBy>
  <dcterms:modified xsi:type="dcterms:W3CDTF">2011-04-05T09:52:57Z</dcterms:modified>
  <cp:revision>98</cp:revision>
  <dc:subject/>
  <dc:title>Dottorato internazionale Dinamiche dopo-moderne, strategie d’innovazione e reti di sviluppo locale Università degli Studi di Perugia </dc:title>
</cp:coreProperties>
</file>